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1B6B-B178-4FC9-8D60-B00FFECB5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frame: The water that carries the boat can always overtur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frame: The prettiest papayas are always emptiest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om frame (from left to right):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mor de lejos, amor de pendejo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ong distance love is for idiots.); Always leave the house with red lipstick on.; There is a point where crying over a lost lover is more about your ego than your heart.; You can make a man love you by putting his picture on a table and burn a candle on top of it for nine days.; Don’t sweep a person’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borah Willis and Hank Willis Th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rom the Words to Live By Series, 1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 digital c-prints; 8 x 50-1/4 inches (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esy of the artists and Jack Shainman Gallery,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155-67A1-479E-B8D3-DCC161D39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frame: When you argue with an intelligent person you cannot win. When you argue with a stupid person you cannot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frame (from left to right): The devil doesn’t need any more advocates.; You can make a man love you by putting a lock of hair in his shoe.; If your eye is itching, it’s a sign you will get some money.; He’s cool as a cucumber.’ Always bet on bl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om frame:(from left to right): It’s bad luck to put your hat on the table.; If something scares you when you are pregnant, it will mark your child.; Honey, if you don’t know what you are talking about, listen, and keep your mouth shut.; It’s bad luck to hang a purse on a doorknob.; To cure a headache, dip a wet rag in vinegar and hold it across your foreh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borah Willis and Hank Willis Th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rom the Words to Live By Series, 1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 digital c-prints; 8 x 50-1/4 inches (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esy of the artists and Jack Shainman Gallery,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B504-5919-487F-B869-C320CAB04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frame (from left to right): Imagination without power is simply dreaming. Power without imagination is brutality.; A cow knows where to find the weak fence.; If you hold onto something too tight, it will make your hand hurt.; Never give a gift of knives unless you want to sever ties.; Never buy underwear for your girlfriend, because you never know who is going to take them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frame (from left to right): Kill them with kindness.; There are other fish in the sea.; Always keep mad money, just in case.; The militant, not the meek, shall inherit the earth.; So far from God, so close to the U.S.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om frame (from left to right):  Know what you are saying, but don’t say everything you know.; Always try to resolve issues with your partner in bed.; Keep your nose to the grindstone.; A good speech is like a woman’s dress, it is long enough to cover the subject, but short enough to be interesting.; Life is like a highway. Don’t let no one move you out of your 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borah Willis and Hank Willis Th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rom the Words to Live By Series, 1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 digital c-prints; 8 x 50-1/4 inches (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esy of the artists and Jack Shainman Gallery,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8B0-C546-4B48-AE38-A4C709103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https://enfocoinc.files.wordpress.com/2011/11/ral_5954.jpg; http://www.ellingtonarts.org/wp-content/uploads/2013/02/Hank-Willis-Thomas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5121-391C-4A2D-9E40-D5436B75F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borah Willis and Hank Willis Th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metimes I See Myself In You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al c-print; 25-1/4 x 54-1/4 i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esy of the artists and Jack Shainman Gallery,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3071-EB0B-4834-B662-04C3185AF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k Willis Th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omas and Thom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al c-print; 22 x 29-3/4 i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esy of the artist and Jack Shainman Gallery,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E56-EB4B-459D-BACA-5C266AF16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5F0-84BD-4FAC-822A-DEB6B3A0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02E-E292-4C53-BD26-BC70BA88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5F0-DE59-42BA-8887-420216C4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C95-4142-4E6F-A1C3-38FC98C8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827-0F5E-44B6-B18F-A793E4CD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49F-9D90-4E0C-8861-5A51C3A7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9C6-66F7-49CA-975C-62E2F74C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B99-33FF-4129-896F-F247210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184-8126-4507-B714-3D821094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7E7-8C94-4797-A41F-27CFD396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8F7-F09E-430D-89D3-53CCAAC7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6B8-4A6A-4ED3-9F50-A35FCAE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684B-8FAE-42A2-949E-076E25892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ulture and Family —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Past &amp; Presen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Work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borah Willis &amp; Hank Willis Tho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09400" cy="229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-17640" y="2297160"/>
            <a:ext cx="12209760" cy="229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0" y="4603680"/>
            <a:ext cx="12192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2600" y="0"/>
            <a:ext cx="12179520" cy="22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-1440" y="4400640"/>
            <a:ext cx="12193560" cy="245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12600" y="2238480"/>
            <a:ext cx="121795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257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2430360"/>
            <a:ext cx="12192120" cy="234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0" y="4702320"/>
            <a:ext cx="1219212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914400" y="5159520"/>
            <a:ext cx="101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borah Willis             &amp;             Hank Willis Tho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s://enfocoinc.files.wordpress.com/2011/11/ral_5954.jpg"/>
          <p:cNvPicPr/>
          <p:nvPr/>
        </p:nvPicPr>
        <p:blipFill>
          <a:blip r:embed="rId1"/>
          <a:srcRect l="0" t="0" r="20399" b="0"/>
          <a:stretch/>
        </p:blipFill>
        <p:spPr>
          <a:xfrm>
            <a:off x="0" y="285840"/>
            <a:ext cx="5592600" cy="468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www.ellingtonarts.org/wp-content/uploads/2013/02/Hank-Willis-Thomas.jpg"/>
          <p:cNvPicPr/>
          <p:nvPr/>
        </p:nvPicPr>
        <p:blipFill>
          <a:blip r:embed="rId2"/>
          <a:stretch/>
        </p:blipFill>
        <p:spPr>
          <a:xfrm>
            <a:off x="5786280" y="285840"/>
            <a:ext cx="63630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ometimes I See Myself In You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, 200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Picture 2" descr="https://www.theagoraculture.com/wp-content/uploads/2015/05/HWT09.059-Sometimes-I-See-Myself-in-You_8x10_300dpi.jpg"/>
          <p:cNvPicPr/>
          <p:nvPr/>
        </p:nvPicPr>
        <p:blipFill>
          <a:blip r:embed="rId1"/>
          <a:stretch/>
        </p:blipFill>
        <p:spPr>
          <a:xfrm>
            <a:off x="-34920" y="1596960"/>
            <a:ext cx="12227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87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Thomas and Thomas,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200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Picture 2" descr="http://dbprng00ikc2j.cloudfront.net/work/image/541848/slide/20120203012035-00920120203.jpg"/>
          <p:cNvPicPr/>
          <p:nvPr/>
        </p:nvPicPr>
        <p:blipFill>
          <a:blip r:embed="rId1"/>
          <a:stretch/>
        </p:blipFill>
        <p:spPr>
          <a:xfrm>
            <a:off x="1927080" y="1060560"/>
            <a:ext cx="81424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5:58:32Z</dcterms:created>
  <dc:creator>Cruz, Barbara</dc:creator>
  <dc:description/>
  <dc:language>en-US</dc:language>
  <cp:lastModifiedBy>Don Fuller</cp:lastModifiedBy>
  <dcterms:modified xsi:type="dcterms:W3CDTF">2015-09-15T17:38:12Z</dcterms:modified>
  <cp:revision>19</cp:revision>
  <dc:subject/>
  <dc:title>PowerPoint Presentation</dc:title>
</cp:coreProperties>
</file>