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13.png" ContentType="image/pn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5766FE-C491-4208-A3F1-B1BAAD1452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Essential Ques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 do items and personal possessions communicate information to others about you?</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Instructional Objectiv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s will:</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plore the term status symbol and socioeconomic status during a whole class discussio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plain the historical and socioeconomic significance of Frazier’s (2007) </a:t>
            </a:r>
            <a:r>
              <a:rPr b="0" i="1" lang="en-US" sz="1200" spc="-1" strike="noStrike">
                <a:solidFill>
                  <a:srgbClr val="000000"/>
                </a:solidFill>
                <a:latin typeface="Calibri"/>
              </a:rPr>
              <a:t>Grandma Ruby’s Refrigerator </a:t>
            </a:r>
            <a:r>
              <a:rPr b="0" lang="en-US" sz="1200" spc="-1" strike="noStrike">
                <a:solidFill>
                  <a:srgbClr val="000000"/>
                </a:solidFill>
                <a:latin typeface="Calibri"/>
              </a:rPr>
              <a:t>during a whole class discussion;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e and describe how various types of items serve as status symbols that communicate messages about socioeconomic status during a whole class discussion;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 a photograph of a material possession they own that serves as a status symbol and analyze what they believe this image communicates about socioeconomic statu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 a photograph of their own/someone else’s refrigerator or other material possession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duce a written analysis of the ways the photograph of the image serves as a status symbol and communicates information about socioeconomic statu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332FA7-F4B3-4694-AB5F-E3630BA1A9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Ask Student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do you se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determinations can we make about the person who owns this refrigerato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evidence are you using to make these determin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st:</a:t>
            </a:r>
            <a:br>
              <a:rPr sz="1200"/>
            </a:br>
            <a:r>
              <a:rPr b="0" lang="en-US" sz="1200" spc="-1" strike="noStrike">
                <a:solidFill>
                  <a:srgbClr val="000000"/>
                </a:solidFill>
                <a:latin typeface="Calibri"/>
              </a:rPr>
              <a:t>Mark Menjiv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formation About Im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esthesiologist | Ft. Worth , TX | 3-Person Household | Youngest son works on crab boat in Alaska. | Day after Thanksgiv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Image and information about image retrieved 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markmenjivar.com//projects/you_are_what_you_e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967B38-4B57-4255-BC2A-BB316A92D0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No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ime:</a:t>
            </a:r>
            <a:r>
              <a:rPr b="0" lang="en-US" sz="1200" spc="-1" strike="noStrike">
                <a:solidFill>
                  <a:srgbClr val="000000"/>
                </a:solidFill>
                <a:latin typeface="Calibri"/>
              </a:rPr>
              <a:t> What day of the month was the fridge observed? The researcher should take multiple photos over the course of the month. In particular, the researcher should take photos right before and after a person received a paycheck or government assistance and the day before and the day after a person shopped for groce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ood inventory:</a:t>
            </a:r>
            <a:r>
              <a:rPr b="0" lang="en-US" sz="1200" spc="-1" strike="noStrike">
                <a:solidFill>
                  <a:srgbClr val="000000"/>
                </a:solidFill>
                <a:latin typeface="Calibri"/>
              </a:rPr>
              <a:t> What types of foods were in the refrigerator? Why these foods? Were the foods mostly perishables? Foods with a shorter shelf life have to be purchased more frequently. This in turn, may lead to a fridge that is less full than one full of processed foods. A food inventory also helps get around the fact that refrigerators come in different sizes influencing how full they appea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ther food in the home:</a:t>
            </a:r>
            <a:r>
              <a:rPr b="0" lang="en-US" sz="1200" spc="-1" strike="noStrike">
                <a:solidFill>
                  <a:srgbClr val="000000"/>
                </a:solidFill>
                <a:latin typeface="Calibri"/>
              </a:rPr>
              <a:t> I would ask to see a second fridge, deep freeze, office fridge, and cabinets. I would want to see all the places that the household stores food to make sure I had an accurate accounting of all available foo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ating meals out/take-out:</a:t>
            </a:r>
            <a:r>
              <a:rPr b="0" lang="en-US" sz="1200" spc="-1" strike="noStrike">
                <a:solidFill>
                  <a:srgbClr val="000000"/>
                </a:solidFill>
                <a:latin typeface="Calibri"/>
              </a:rPr>
              <a:t> I would ask about how many meals the household eats out each week. I’ve already eaten two meals out this week and it’s only Tuesday. More food eaten out, means less food I purchase for my frid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ating patter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umber of people in the household (and their ag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Refer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sociologyinfocus.com/2014/10/15/what-your-fridge-says-about-your-social-class/</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A490E6-7572-44C6-AB7D-4032D80507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Ask student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do you think is inside Grandma Ruby’s fridge?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evidence did you use to make this determinatio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what ways may the various items and décor serve as status symbol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y do you believe Frazier/Menivar selected the refrigerator as the subject of their work?</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Photograp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Toya Ruby Frazi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Grandma Ruby’s Refrigerator</a:t>
            </a:r>
            <a:r>
              <a:rPr b="0" lang="en-US" sz="1200" spc="-1" strike="noStrike">
                <a:solidFill>
                  <a:srgbClr val="000000"/>
                </a:solidFill>
                <a:latin typeface="Calibri"/>
              </a:rPr>
              <a:t>, 2007</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latin silver pri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4-7/8 x 17-3/4 inch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rtesy of the artist and Michel Rein, Paris/Brusse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91A743-383A-4AD0-90D4-84A96DDD95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Image retrieved 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sears.com/shc/s/t_10153_12605?tName=reversible-freezer-refrigerator.htm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56CA7D-6A08-4A6C-8532-8593298CB3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Visual Thinking Strategy (V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k student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s going on in this picture?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do you see that makes you say tha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more can we find?</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w them the title of the photograph, date taken, and artist’s nam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k student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does the title add to your understanding of what is going on in the pictu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For more on V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vtshome.or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Photograp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Toya Ruby Frazi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Grandma Ruby’s Refrigerator</a:t>
            </a:r>
            <a:r>
              <a:rPr b="0" lang="en-US" sz="1200" spc="-1" strike="noStrike">
                <a:solidFill>
                  <a:srgbClr val="000000"/>
                </a:solidFill>
                <a:latin typeface="Calibri"/>
              </a:rPr>
              <a:t>, 2007</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latin silver pri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4-7/8 x 17-3/4 inch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rtesy of the artist and Michel Rein, Paris/Brusse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562B5C-A3E8-4230-B5F8-652925E8DA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Read to stud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lentlessly documenting encounters with Grandma Ruby (b.1925-2009), Mom (b.1959) and myself (b.1982) enables me to break unspoken intergenerational cycles. We are wrestling with internalized life experiences, perceptions of ourselves and familial personas informed by sociopolitical baggage. All of my photographs are created in Braddock, Pennsylvania, a historical steel mill town from America’s Industrial period. It is home of Andrew Carnegie’s first Steel Mill, The Edgar Thomson Works, which still functions today. Grandma Ruby, Mom and myself grew up in significantly different social and economic climates in Braddock. Grandma Ruby witnessed Braddock’s prosperous days of department stores, theaters and restaurants. Mom witnessed the steel mills close and white flight to suburban developments. I witnessed the War on Drugs decimate my family and community. Between our three generations we not only witnessed, we experienced and internalized the end of industrialization and rise of deindustrializ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References/further read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latoyarubyfrazier.c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azier, L. R. (2014). </a:t>
            </a:r>
            <a:r>
              <a:rPr b="0" i="1" lang="en-US" sz="1200" spc="-1" strike="noStrike">
                <a:solidFill>
                  <a:srgbClr val="000000"/>
                </a:solidFill>
                <a:latin typeface="Calibri"/>
              </a:rPr>
              <a:t>The notion of family. </a:t>
            </a:r>
            <a:r>
              <a:rPr b="0" lang="en-US" sz="1200" spc="-1" strike="noStrike">
                <a:solidFill>
                  <a:srgbClr val="000000"/>
                </a:solidFill>
                <a:latin typeface="Calibri"/>
              </a:rPr>
              <a:t>New York, NY: Apertu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Photograp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Toya Ruby Frazi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Grandma Ruby, JC and Me watching Soap Operas</a:t>
            </a:r>
            <a:r>
              <a:rPr b="0" lang="en-US" sz="1200" spc="-1" strike="noStrike">
                <a:solidFill>
                  <a:srgbClr val="000000"/>
                </a:solidFill>
                <a:latin typeface="Calibri"/>
              </a:rPr>
              <a:t>, 200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latin silver pri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7-7/8 x 23-3/4 inch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rtesy of the artist and Michel Rein, Paris/Brusse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1D782C-9FA2-4C6D-9DFD-9A4D1C17D0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w video from the beginning up to 5:45. This should serve as a review of the lesson titled </a:t>
            </a:r>
            <a:r>
              <a:rPr b="0" i="1" lang="en-US" sz="1200" spc="-1" strike="noStrike">
                <a:solidFill>
                  <a:srgbClr val="000000"/>
                </a:solidFill>
                <a:latin typeface="Calibri"/>
              </a:rPr>
              <a:t>Rust Belt Realities</a:t>
            </a:r>
            <a:r>
              <a:rPr b="0" lang="en-US" sz="1200" spc="-1" strike="noStrike">
                <a:solidFill>
                  <a:srgbClr val="000000"/>
                </a:solidFill>
                <a:latin typeface="Calibri"/>
              </a:rPr>
              <a:t> or can serve to provide a baseline understanding of the town where LaToya and Grandma Ruby are fro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Video retrieved 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poptech.org/popcasts/john_fetterman_reviving_braddoc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A41512-03A0-45D9-8CCC-1EA966B659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k for a volunteer to read the definition of one term and engage students in a conversation about the term. Repeat. Emphasize the connection between each ter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tatus: </a:t>
            </a:r>
            <a:r>
              <a:rPr b="0" lang="en-US" sz="1200" spc="-1" strike="noStrike">
                <a:solidFill>
                  <a:srgbClr val="000000"/>
                </a:solidFill>
                <a:latin typeface="Calibri"/>
              </a:rPr>
              <a:t>an acknowledged social position of an individu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ocial Class</a:t>
            </a:r>
            <a:r>
              <a:rPr b="0" lang="en-US" sz="1200" spc="-1" strike="noStrike">
                <a:solidFill>
                  <a:srgbClr val="000000"/>
                </a:solidFill>
                <a:latin typeface="Calibri"/>
              </a:rPr>
              <a:t>: a statistical category to which people are assigned on the basis of income, occupation, or educ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tatus symbol</a:t>
            </a:r>
            <a:r>
              <a:rPr b="0" lang="en-US" sz="1200" spc="-1" strike="noStrike">
                <a:solidFill>
                  <a:srgbClr val="000000"/>
                </a:solidFill>
                <a:latin typeface="Calibri"/>
              </a:rPr>
              <a:t>: a possession that indicates a person’s economic and/or social position/status. Similar to other symbols, status symbols get meaning from their cultural context.</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ociologists typically measure a person’s social class based on </a:t>
            </a:r>
            <a:r>
              <a:rPr b="0" i="1" lang="en-US" sz="1200" spc="-1" strike="noStrike">
                <a:solidFill>
                  <a:srgbClr val="000000"/>
                </a:solidFill>
                <a:latin typeface="Calibri"/>
              </a:rPr>
              <a:t>income, education, and occupation. </a:t>
            </a:r>
            <a:r>
              <a:rPr b="0" lang="en-US" sz="1200" spc="-1" strike="noStrike">
                <a:solidFill>
                  <a:srgbClr val="000000"/>
                </a:solidFill>
                <a:latin typeface="Calibri"/>
              </a:rPr>
              <a:t>Instead of using the term social class, sociologists use the term </a:t>
            </a:r>
            <a:r>
              <a:rPr b="1" lang="en-US" sz="1200" spc="-1" strike="noStrike">
                <a:solidFill>
                  <a:srgbClr val="000000"/>
                </a:solidFill>
                <a:latin typeface="Calibri"/>
              </a:rPr>
              <a:t>socioeconomic status (SES)</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ocioeconomic status:</a:t>
            </a:r>
            <a:r>
              <a:rPr b="0" lang="en-US" sz="1200" spc="-1" strike="noStrike">
                <a:solidFill>
                  <a:srgbClr val="000000"/>
                </a:solidFill>
                <a:latin typeface="Calibri"/>
              </a:rPr>
              <a:t> the social class of an individual or group measured by things such as education, income and occup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ocial Stratification: </a:t>
            </a:r>
            <a:r>
              <a:rPr b="0" lang="en-US" sz="1200" spc="-1" strike="noStrike">
                <a:solidFill>
                  <a:srgbClr val="000000"/>
                </a:solidFill>
                <a:latin typeface="Calibri"/>
              </a:rPr>
              <a:t>a system where individual or groups are ranked or graded into hierarchical categories layers based on wealthy, power, and presti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finition taken from the following sour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ughes, M. &amp; Kroehler, C. (2011).</a:t>
            </a:r>
            <a:r>
              <a:rPr b="0" i="1" lang="en-US" sz="1200" spc="-1" strike="noStrike">
                <a:solidFill>
                  <a:srgbClr val="000000"/>
                </a:solidFill>
                <a:latin typeface="Calibri"/>
              </a:rPr>
              <a:t> Sociology: The core.</a:t>
            </a:r>
            <a:r>
              <a:rPr b="0" lang="en-US" sz="1200" spc="-1" strike="noStrike">
                <a:solidFill>
                  <a:srgbClr val="000000"/>
                </a:solidFill>
                <a:latin typeface="Calibri"/>
              </a:rPr>
              <a:t> New York, NY: McGraw-Hi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A95923-D650-4A3F-B18D-618E405D05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Ask the ques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are some status symbols common at our school? (if needed, modify images to reflect your schoo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Sa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tus symbols are everywhere and some are very obvious. Examples include one’s car, jewelry, clothes, houses, and items inside a house. For example, an entry-level model Rolls-Royce (costs approximately $250,000) costs more than Toyota Yaris (costs approximately $15,000). Therefore, status symbols are useful in measuring social clas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day items, such as items found inside your house, can also communicate messages about one’s status and SES, among other things. Let’s take a slightly different look at status symbols and SES by looking at the inside of people’s refrigerato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C2568F-8266-402F-A408-534FAED3F9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Ask Student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do you se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determinations can we make about the person who owns this refrigerato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evidence did you use to make these determin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st:</a:t>
            </a:r>
            <a:br>
              <a:rPr sz="1200"/>
            </a:br>
            <a:r>
              <a:rPr b="0" lang="en-US" sz="1200" spc="-1" strike="noStrike">
                <a:solidFill>
                  <a:srgbClr val="000000"/>
                </a:solidFill>
                <a:latin typeface="Calibri"/>
              </a:rPr>
              <a:t>Mark Menjiv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formation About Im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reet Advertiser | San Antonio, TX | 1-Person Household | Lives on $432 fixed monthly incom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Image and information about image retrieved 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markmenjivar.com//projects/you_are_what_you_e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1E4FB4-AA59-451E-988C-E5BAAA9FFA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Ask Student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do you se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determinations can we make about the person who owns this refrigerato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evidence did you use to make these determin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st:</a:t>
            </a:r>
            <a:br>
              <a:rPr sz="1200"/>
            </a:br>
            <a:r>
              <a:rPr b="0" lang="en-US" sz="1200" spc="-1" strike="noStrike">
                <a:solidFill>
                  <a:srgbClr val="000000"/>
                </a:solidFill>
                <a:latin typeface="Calibri"/>
              </a:rPr>
              <a:t>Mark Menjiv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formation About Im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ournalist/Designer/School Teacher | Austin, TX | 3-Person Household | Writes the obituaries for the local newspap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Image and information about image retrieved 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markmenjivar.com//projects/you_are_what_you_e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09C178-8088-42EF-A957-352474F01D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Ask Student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do you se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determinations can we make about the person who owns this refrigerato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evidence are you using to make these determin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st:</a:t>
            </a:r>
            <a:br>
              <a:rPr sz="1200"/>
            </a:br>
            <a:r>
              <a:rPr b="0" lang="en-US" sz="1200" spc="-1" strike="noStrike">
                <a:solidFill>
                  <a:srgbClr val="000000"/>
                </a:solidFill>
                <a:latin typeface="Calibri"/>
              </a:rPr>
              <a:t>Mark Menjiv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formation About Im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chool Crossing Guard/Nursing Home Assistant | Austin, TX | 6-Person Household | Parents and 3 adult children live in an efficiency apart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Image and information about image retrieved 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markmenjivar.com//projects/you_are_what_you_eat</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618388-FA21-4275-B48E-3AF602FDB9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76286-E639-4827-B4A2-AD3E34775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22AB3-4D3C-4FE0-9840-C0758467C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8CEF9-DEC4-4496-AFDC-8DA93E65E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4641A-CB96-4B66-AF19-DE26041CE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B6945-4E4C-4BF9-8170-790F5FBAF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8411B-AD50-4B0D-9B52-5DBD409BC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D7105-5255-4195-A628-6C9D67DAB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F1BF9-A555-4291-8ED4-47BDD601A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5C02A-0D84-4012-A08A-D84275DC0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E095A-2181-415B-9105-C3162EF0E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B692E-9375-425E-939E-22BB8E26F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1987E-B738-4902-B2EF-352D9CCC1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6FF9F1-6AB4-4E4F-9706-75635AB6F1B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Screen Shot 2015-08-03 at 6.15.14 PM.png"/>
          <p:cNvPicPr/>
          <p:nvPr/>
        </p:nvPicPr>
        <p:blipFill>
          <a:blip r:embed="rId1"/>
          <a:stretch/>
        </p:blipFill>
        <p:spPr>
          <a:xfrm>
            <a:off x="2133720" y="-49320"/>
            <a:ext cx="5209920" cy="690732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Arial"/>
                <a:ea typeface="Arial"/>
              </a:rPr>
              <a:t>What’s in Your Fridge?</a:t>
            </a:r>
            <a:r>
              <a:rPr b="0" lang="en-US" sz="4000" spc="-1" strike="noStrike">
                <a:solidFill>
                  <a:srgbClr val="000000"/>
                </a:solidFill>
                <a:latin typeface="Arial"/>
                <a:ea typeface="Arial"/>
              </a:rPr>
              <a:t>: </a:t>
            </a:r>
            <a:br>
              <a:rPr sz="4000"/>
            </a:br>
            <a:r>
              <a:rPr b="0" lang="en-US" sz="4000" spc="-1" strike="noStrike">
                <a:solidFill>
                  <a:srgbClr val="000000"/>
                </a:solidFill>
                <a:latin typeface="Arial"/>
                <a:ea typeface="Arial"/>
              </a:rPr>
              <a:t>Status Symbols &amp; Socioeconomic Status</a:t>
            </a:r>
            <a:endParaRPr b="0" lang="en-US" sz="4000" spc="-1" strike="noStrike">
              <a:solidFill>
                <a:srgbClr val="000000"/>
              </a:solidFill>
              <a:latin typeface="Calibri"/>
            </a:endParaRPr>
          </a:p>
        </p:txBody>
      </p:sp>
      <p:sp>
        <p:nvSpPr>
          <p:cNvPr id="50" name="PlaceHolder 2"/>
          <p:cNvSpPr>
            <a:spLocks noGrp="1"/>
          </p:cNvSpPr>
          <p:nvPr>
            <p:ph type="subTitle"/>
          </p:nvPr>
        </p:nvSpPr>
        <p:spPr>
          <a:xfrm>
            <a:off x="851040" y="5339880"/>
            <a:ext cx="7772400" cy="1752840"/>
          </a:xfrm>
          <a:prstGeom prst="rect">
            <a:avLst/>
          </a:prstGeom>
          <a:noFill/>
          <a:ln w="0">
            <a:noFill/>
          </a:ln>
        </p:spPr>
        <p:txBody>
          <a:bodyPr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7375e"/>
                </a:solidFill>
                <a:latin typeface="Arial"/>
                <a:ea typeface="Arial"/>
              </a:rPr>
              <a:t>Highlighting Artists:</a:t>
            </a:r>
            <a:endParaRPr b="0" lang="en-US" sz="3200" spc="-1" strike="noStrike">
              <a:solidFill>
                <a:srgbClr val="000000"/>
              </a:solidFill>
              <a:latin typeface="Calibri"/>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7375e"/>
                </a:solidFill>
                <a:latin typeface="Arial"/>
                <a:ea typeface="Arial"/>
              </a:rPr>
              <a:t>LaToya Ruby Frazier &amp; Mark Menjivar</a:t>
            </a:r>
            <a:endParaRPr b="0" lang="en-US" sz="3200" spc="-1" strike="noStrike">
              <a:solidFill>
                <a:srgbClr val="000000"/>
              </a:solidFill>
              <a:latin typeface="Calibri"/>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78" name="Picture 3" descr="1310145546Anesthesiologist.jpg"/>
          <p:cNvPicPr/>
          <p:nvPr/>
        </p:nvPicPr>
        <p:blipFill>
          <a:blip r:embed="rId1"/>
          <a:stretch/>
        </p:blipFill>
        <p:spPr>
          <a:xfrm>
            <a:off x="1654200" y="0"/>
            <a:ext cx="5486400" cy="68580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ings we need to consider…</a:t>
            </a:r>
            <a:endParaRPr b="0" lang="en-US" sz="4400" spc="-1" strike="noStrike">
              <a:solidFill>
                <a:srgbClr val="000000"/>
              </a:solidFill>
              <a:latin typeface="Calibri"/>
            </a:endParaRPr>
          </a:p>
        </p:txBody>
      </p:sp>
      <p:sp>
        <p:nvSpPr>
          <p:cNvPr id="80" name=""/>
          <p:cNvSpPr txBox="1"/>
          <p:nvPr/>
        </p:nvSpPr>
        <p:spPr>
          <a:xfrm>
            <a:off x="2022480" y="1668600"/>
            <a:ext cx="6664320" cy="4525920"/>
          </a:xfrm>
          <a:prstGeom prst="rect">
            <a:avLst/>
          </a:prstGeom>
          <a:noFill/>
          <a:ln w="0">
            <a:noFill/>
          </a:ln>
        </p:spPr>
        <p:txBody>
          <a:bodyPr anchor="t">
            <a:normAutofit/>
          </a:bodyPr>
          <a:p>
            <a:pPr marL="343080" indent="-343080">
              <a:spcBef>
                <a:spcPts val="8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Calibri"/>
              </a:rPr>
              <a:t>Time of month</a:t>
            </a:r>
            <a:endParaRPr b="0" lang="en-US" sz="3500" spc="-1" strike="noStrike">
              <a:solidFill>
                <a:srgbClr val="000000"/>
              </a:solidFill>
              <a:latin typeface="Calibri"/>
            </a:endParaRPr>
          </a:p>
          <a:p>
            <a:pPr marL="343080" indent="-343080">
              <a:spcBef>
                <a:spcPts val="8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Calibri"/>
              </a:rPr>
              <a:t>Food inventory</a:t>
            </a:r>
            <a:endParaRPr b="0" lang="en-US" sz="3500" spc="-1" strike="noStrike">
              <a:solidFill>
                <a:srgbClr val="000000"/>
              </a:solidFill>
              <a:latin typeface="Calibri"/>
            </a:endParaRPr>
          </a:p>
          <a:p>
            <a:pPr marL="343080" indent="-343080">
              <a:spcBef>
                <a:spcPts val="8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Calibri"/>
              </a:rPr>
              <a:t>Other food in the home</a:t>
            </a:r>
            <a:endParaRPr b="0" lang="en-US" sz="3500" spc="-1" strike="noStrike">
              <a:solidFill>
                <a:srgbClr val="000000"/>
              </a:solidFill>
              <a:latin typeface="Calibri"/>
            </a:endParaRPr>
          </a:p>
          <a:p>
            <a:pPr marL="343080" indent="-343080">
              <a:spcBef>
                <a:spcPts val="8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Calibri"/>
              </a:rPr>
              <a:t>Take-out/eating out</a:t>
            </a:r>
            <a:endParaRPr b="0" lang="en-US" sz="3500" spc="-1" strike="noStrike">
              <a:solidFill>
                <a:srgbClr val="000000"/>
              </a:solidFill>
              <a:latin typeface="Calibri"/>
            </a:endParaRPr>
          </a:p>
          <a:p>
            <a:pPr marL="343080" indent="-343080">
              <a:spcBef>
                <a:spcPts val="8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Calibri"/>
              </a:rPr>
              <a:t>Eating patterns</a:t>
            </a:r>
            <a:endParaRPr b="0" lang="en-US" sz="3500" spc="-1" strike="noStrike">
              <a:solidFill>
                <a:srgbClr val="000000"/>
              </a:solidFill>
              <a:latin typeface="Calibri"/>
            </a:endParaRPr>
          </a:p>
          <a:p>
            <a:pPr marL="343080" indent="-343080">
              <a:spcBef>
                <a:spcPts val="8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Calibri"/>
              </a:rPr>
              <a:t>Number of people in the household (and their ages)</a:t>
            </a:r>
            <a:endParaRPr b="0" lang="en-US" sz="3500" spc="-1" strike="noStrike">
              <a:solidFill>
                <a:srgbClr val="000000"/>
              </a:solidFill>
              <a:latin typeface="Calibri"/>
            </a:endParaRPr>
          </a:p>
          <a:p>
            <a:pPr marL="343080" indent="-343080">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Screen Shot 2015-08-03 at 6.15.14 PM.png"/>
          <p:cNvPicPr/>
          <p:nvPr/>
        </p:nvPicPr>
        <p:blipFill>
          <a:blip r:embed="rId1"/>
          <a:stretch/>
        </p:blipFill>
        <p:spPr>
          <a:xfrm>
            <a:off x="2443320" y="171360"/>
            <a:ext cx="4071960" cy="5397480"/>
          </a:xfrm>
          <a:prstGeom prst="rect">
            <a:avLst/>
          </a:prstGeom>
          <a:ln w="0">
            <a:noFill/>
          </a:ln>
        </p:spPr>
      </p:pic>
      <p:sp>
        <p:nvSpPr>
          <p:cNvPr id="82" name="TextBox 4"/>
          <p:cNvSpPr/>
          <p:nvPr/>
        </p:nvSpPr>
        <p:spPr>
          <a:xfrm>
            <a:off x="1992240" y="5591160"/>
            <a:ext cx="5102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Arial"/>
              </a:rPr>
              <a:t>LaToya Ruby Frazier</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ea typeface="Arial"/>
              </a:rPr>
              <a:t>Grandma Ruby’s Refrigerator, </a:t>
            </a:r>
            <a:r>
              <a:rPr b="0" lang="en-US" sz="2400" spc="-1" strike="noStrike">
                <a:solidFill>
                  <a:srgbClr val="000000"/>
                </a:solidFill>
                <a:latin typeface="Calibri"/>
                <a:ea typeface="Arial"/>
              </a:rPr>
              <a:t>2007</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84" name="Picture 5" descr=""/>
          <p:cNvPicPr/>
          <p:nvPr/>
        </p:nvPicPr>
        <p:blipFill>
          <a:blip r:embed="rId1"/>
          <a:stretch/>
        </p:blipFill>
        <p:spPr>
          <a:xfrm>
            <a:off x="1130400" y="0"/>
            <a:ext cx="6858000" cy="6858000"/>
          </a:xfrm>
          <a:prstGeom prst="rect">
            <a:avLst/>
          </a:prstGeom>
          <a:ln w="0">
            <a:noFill/>
          </a:ln>
        </p:spPr>
      </p:pic>
      <p:sp>
        <p:nvSpPr>
          <p:cNvPr id="85" name="TextBox 6"/>
          <p:cNvSpPr/>
          <p:nvPr/>
        </p:nvSpPr>
        <p:spPr>
          <a:xfrm>
            <a:off x="1144440" y="3013200"/>
            <a:ext cx="7243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Arial"/>
                <a:ea typeface="Arial"/>
              </a:rPr>
              <a:t>What’s Inside </a:t>
            </a:r>
            <a:r>
              <a:rPr b="0" i="1" lang="en-US" sz="4400" spc="-1" strike="noStrike">
                <a:solidFill>
                  <a:srgbClr val="000090"/>
                </a:solidFill>
                <a:latin typeface="Arial"/>
                <a:ea typeface="Arial"/>
              </a:rPr>
              <a:t>Your</a:t>
            </a:r>
            <a:r>
              <a:rPr b="0" lang="en-US" sz="4400" spc="-1" strike="noStrike">
                <a:solidFill>
                  <a:srgbClr val="000090"/>
                </a:solidFill>
                <a:latin typeface="Arial"/>
                <a:ea typeface="Arial"/>
              </a:rPr>
              <a:t> Frid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Screen Shot 2015-08-03 at 6.15.14 PM.png"/>
          <p:cNvPicPr/>
          <p:nvPr/>
        </p:nvPicPr>
        <p:blipFill>
          <a:blip r:embed="rId1"/>
          <a:stretch/>
        </p:blipFill>
        <p:spPr>
          <a:xfrm>
            <a:off x="2616120" y="399960"/>
            <a:ext cx="3899160" cy="5168880"/>
          </a:xfrm>
          <a:prstGeom prst="rect">
            <a:avLst/>
          </a:prstGeom>
          <a:ln w="0">
            <a:noFill/>
          </a:ln>
        </p:spPr>
      </p:pic>
      <p:sp>
        <p:nvSpPr>
          <p:cNvPr id="52" name="TextBox 4"/>
          <p:cNvSpPr/>
          <p:nvPr/>
        </p:nvSpPr>
        <p:spPr>
          <a:xfrm>
            <a:off x="1992240" y="5591160"/>
            <a:ext cx="5102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Arial"/>
              </a:rPr>
              <a:t>LaToya Ruby Frazier</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ea typeface="Arial"/>
              </a:rPr>
              <a:t>Grandma Ruby’s Refrigerator, </a:t>
            </a:r>
            <a:r>
              <a:rPr b="0" lang="en-US" sz="2400" spc="-1" strike="noStrike">
                <a:solidFill>
                  <a:srgbClr val="000000"/>
                </a:solidFill>
                <a:latin typeface="Calibri"/>
                <a:ea typeface="Arial"/>
              </a:rPr>
              <a:t>2007</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
          <p:cNvPicPr/>
          <p:nvPr/>
        </p:nvPicPr>
        <p:blipFill>
          <a:blip r:embed="rId1"/>
          <a:stretch/>
        </p:blipFill>
        <p:spPr>
          <a:xfrm>
            <a:off x="1344600" y="331920"/>
            <a:ext cx="6526080" cy="4906800"/>
          </a:xfrm>
          <a:prstGeom prst="rect">
            <a:avLst/>
          </a:prstGeom>
          <a:ln w="9360">
            <a:solidFill>
              <a:srgbClr val="ffffff"/>
            </a:solidFill>
            <a:miter/>
          </a:ln>
        </p:spPr>
      </p:pic>
      <p:sp>
        <p:nvSpPr>
          <p:cNvPr id="54" name="TextBox 4"/>
          <p:cNvSpPr/>
          <p:nvPr/>
        </p:nvSpPr>
        <p:spPr>
          <a:xfrm>
            <a:off x="1992240" y="5591160"/>
            <a:ext cx="51022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Arial"/>
              </a:rPr>
              <a:t>LaToya Ruby Frazier</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Grandma Ruby, JC and Me watching Soap Operas</a:t>
            </a:r>
            <a:r>
              <a:rPr b="0" lang="en-US" sz="2400" spc="-1" strike="noStrike">
                <a:solidFill>
                  <a:srgbClr val="000000"/>
                </a:solidFill>
                <a:latin typeface="Calibri"/>
              </a:rPr>
              <a:t>, 2005</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 name="TextBox 5"/>
          <p:cNvSpPr/>
          <p:nvPr/>
        </p:nvSpPr>
        <p:spPr>
          <a:xfrm>
            <a:off x="4608360" y="341280"/>
            <a:ext cx="1870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Grandma Ruby</a:t>
            </a:r>
            <a:endParaRPr b="0" lang="en-US" sz="2200" spc="-1" strike="noStrike">
              <a:solidFill>
                <a:srgbClr val="000000"/>
              </a:solidFill>
              <a:latin typeface="Calibri"/>
            </a:endParaRPr>
          </a:p>
        </p:txBody>
      </p:sp>
      <p:sp>
        <p:nvSpPr>
          <p:cNvPr id="56" name="TextBox 6"/>
          <p:cNvSpPr/>
          <p:nvPr/>
        </p:nvSpPr>
        <p:spPr>
          <a:xfrm>
            <a:off x="1116000" y="1407960"/>
            <a:ext cx="18702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LaToya</a:t>
            </a:r>
            <a:endParaRPr b="0" lang="en-US" sz="2200" spc="-1" strike="noStrike">
              <a:solidFill>
                <a:srgbClr val="000000"/>
              </a:solidFill>
              <a:latin typeface="Calibri"/>
            </a:endParaRPr>
          </a:p>
        </p:txBody>
      </p:sp>
      <p:sp>
        <p:nvSpPr>
          <p:cNvPr id="57" name="Bent Arrow 7"/>
          <p:cNvSpPr/>
          <p:nvPr/>
        </p:nvSpPr>
        <p:spPr>
          <a:xfrm rot="10800000">
            <a:off x="4978440" y="860040"/>
            <a:ext cx="565200" cy="469800"/>
          </a:xfrm>
          <a:custGeom>
            <a:avLst/>
            <a:gdLst/>
            <a:ahLst/>
            <a:rect l="l" t="t" r="r" b="b"/>
            <a:pathLst>
              <a:path w="565398" h="469892">
                <a:moveTo>
                  <a:pt x="0" y="469892"/>
                </a:moveTo>
                <a:lnTo>
                  <a:pt x="0" y="264314"/>
                </a:lnTo>
                <a:cubicBezTo>
                  <a:pt x="0" y="150776"/>
                  <a:pt x="92040" y="58736"/>
                  <a:pt x="205578" y="58736"/>
                </a:cubicBezTo>
                <a:lnTo>
                  <a:pt x="447925" y="58737"/>
                </a:lnTo>
                <a:lnTo>
                  <a:pt x="447925" y="0"/>
                </a:lnTo>
                <a:lnTo>
                  <a:pt x="565398" y="117473"/>
                </a:lnTo>
                <a:lnTo>
                  <a:pt x="447925" y="234946"/>
                </a:lnTo>
                <a:lnTo>
                  <a:pt x="447925" y="176210"/>
                </a:lnTo>
                <a:lnTo>
                  <a:pt x="205578" y="176210"/>
                </a:lnTo>
                <a:cubicBezTo>
                  <a:pt x="156919" y="176210"/>
                  <a:pt x="117473" y="215656"/>
                  <a:pt x="117473" y="264315"/>
                </a:cubicBezTo>
                <a:lnTo>
                  <a:pt x="117473" y="469892"/>
                </a:lnTo>
                <a:lnTo>
                  <a:pt x="0" y="469892"/>
                </a:lnTo>
                <a:close/>
              </a:path>
            </a:pathLst>
          </a:custGeom>
          <a:solidFill>
            <a:srgbClr val="ff00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Bent Arrow 9"/>
          <p:cNvSpPr/>
          <p:nvPr/>
        </p:nvSpPr>
        <p:spPr>
          <a:xfrm flipV="1">
            <a:off x="2151000" y="1808280"/>
            <a:ext cx="646200" cy="576000"/>
          </a:xfrm>
          <a:custGeom>
            <a:avLst/>
            <a:gdLst/>
            <a:ahLst/>
            <a:rect l="l" t="t" r="r" b="b"/>
            <a:pathLst>
              <a:path w="645459" h="576279">
                <a:moveTo>
                  <a:pt x="0" y="576279"/>
                </a:moveTo>
                <a:lnTo>
                  <a:pt x="0" y="306229"/>
                </a:lnTo>
                <a:cubicBezTo>
                  <a:pt x="0" y="176887"/>
                  <a:pt x="104852" y="72035"/>
                  <a:pt x="234194" y="72035"/>
                </a:cubicBezTo>
                <a:lnTo>
                  <a:pt x="501389" y="72035"/>
                </a:lnTo>
                <a:lnTo>
                  <a:pt x="501389" y="0"/>
                </a:lnTo>
                <a:lnTo>
                  <a:pt x="645459" y="144070"/>
                </a:lnTo>
                <a:lnTo>
                  <a:pt x="501389" y="288140"/>
                </a:lnTo>
                <a:lnTo>
                  <a:pt x="501389" y="216105"/>
                </a:lnTo>
                <a:lnTo>
                  <a:pt x="234194" y="216105"/>
                </a:lnTo>
                <a:cubicBezTo>
                  <a:pt x="184420" y="216105"/>
                  <a:pt x="144070" y="256455"/>
                  <a:pt x="144070" y="306229"/>
                </a:cubicBezTo>
                <a:lnTo>
                  <a:pt x="144070" y="576279"/>
                </a:lnTo>
                <a:lnTo>
                  <a:pt x="0" y="576279"/>
                </a:lnTo>
                <a:close/>
              </a:path>
            </a:pathLst>
          </a:custGeom>
          <a:solidFill>
            <a:srgbClr val="ff00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raddock, PA</a:t>
            </a:r>
            <a:endParaRPr b="0" lang="en-US" sz="4400" spc="-1" strike="noStrike">
              <a:solidFill>
                <a:srgbClr val="000000"/>
              </a:solidFill>
              <a:latin typeface="Calibri"/>
            </a:endParaRPr>
          </a:p>
        </p:txBody>
      </p:sp>
      <p:pic>
        <p:nvPicPr>
          <p:cNvPr id="60" name="Picture 2" descr="http://static01.nyt.com/images/2011/02/13/magazine/13Fetterman-span/13Fetterman-t_CA0-articleLarge.jpg"/>
          <p:cNvPicPr/>
          <p:nvPr/>
        </p:nvPicPr>
        <p:blipFill>
          <a:blip r:embed="rId1"/>
          <a:stretch/>
        </p:blipFill>
        <p:spPr>
          <a:xfrm>
            <a:off x="1517760" y="1384200"/>
            <a:ext cx="6113520" cy="4075200"/>
          </a:xfrm>
          <a:prstGeom prst="rect">
            <a:avLst/>
          </a:prstGeom>
          <a:ln w="0">
            <a:noFill/>
          </a:ln>
        </p:spPr>
      </p:pic>
      <p:sp>
        <p:nvSpPr>
          <p:cNvPr id="61" name="Rectangle 2"/>
          <p:cNvSpPr/>
          <p:nvPr/>
        </p:nvSpPr>
        <p:spPr>
          <a:xfrm>
            <a:off x="1869840" y="5691240"/>
            <a:ext cx="534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John Fetterman: Reviving Braddock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finitions of Terms</a:t>
            </a:r>
            <a:endParaRPr b="0" lang="en-US" sz="4400" spc="-1" strike="noStrike">
              <a:solidFill>
                <a:srgbClr val="000000"/>
              </a:solidFill>
              <a:latin typeface="Calibri"/>
            </a:endParaRPr>
          </a:p>
        </p:txBody>
      </p:sp>
      <p:graphicFrame>
        <p:nvGraphicFramePr>
          <p:cNvPr id="63" name=""/>
          <p:cNvGraphicFramePr/>
          <p:nvPr/>
        </p:nvGraphicFramePr>
        <p:xfrm>
          <a:off x="457200" y="1224000"/>
          <a:ext cx="8229600" cy="5492880"/>
        </p:xfrm>
        <a:graphic>
          <a:graphicData uri="http://schemas.openxmlformats.org/drawingml/2006/table">
            <a:tbl>
              <a:tblPr/>
              <a:tblGrid>
                <a:gridCol w="2116080"/>
                <a:gridCol w="611352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Ter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efini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912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cial Clas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statistical category to which people are assigned on the basis of income, occupation, or education </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57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tatus Symbol</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possession that indicates a person’s economic and/or social position/status</a:t>
                      </a:r>
                      <a:r>
                        <a:rPr b="0" lang="en-US" sz="2400" spc="-1" strike="noStrike">
                          <a:solidFill>
                            <a:srgbClr val="000000"/>
                          </a:solidFill>
                          <a:latin typeface="Calibri"/>
                        </a:rPr>
                        <a:t>. Similar to other symbols, status symbols get meaning from their cultural context. </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912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cioeconomic Status (SE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social class of an individual or group measured by things such as education, income and occupation. </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12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cial Stratification</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system where individual or groups are ranked or graded into hierarchical categories layers based on wealthy, power, and prestige</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us Symbol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hat are some status symbols common at our school?</a:t>
            </a:r>
            <a:endParaRPr b="0" lang="en-US" sz="2800" spc="-1" strike="noStrike">
              <a:solidFill>
                <a:srgbClr val="000000"/>
              </a:solidFill>
              <a:latin typeface="Calibri"/>
            </a:endParaRPr>
          </a:p>
        </p:txBody>
      </p:sp>
      <p:pic>
        <p:nvPicPr>
          <p:cNvPr id="66" name="Picture 14" descr=""/>
          <p:cNvPicPr/>
          <p:nvPr/>
        </p:nvPicPr>
        <p:blipFill>
          <a:blip r:embed="rId1"/>
          <a:stretch/>
        </p:blipFill>
        <p:spPr>
          <a:xfrm>
            <a:off x="254160" y="3102120"/>
            <a:ext cx="1627200" cy="1627200"/>
          </a:xfrm>
          <a:prstGeom prst="rect">
            <a:avLst/>
          </a:prstGeom>
          <a:ln w="0">
            <a:noFill/>
          </a:ln>
        </p:spPr>
      </p:pic>
      <p:pic>
        <p:nvPicPr>
          <p:cNvPr id="67" name="Picture 16" descr=""/>
          <p:cNvPicPr/>
          <p:nvPr/>
        </p:nvPicPr>
        <p:blipFill>
          <a:blip r:embed="rId2"/>
          <a:stretch/>
        </p:blipFill>
        <p:spPr>
          <a:xfrm>
            <a:off x="230040" y="4981680"/>
            <a:ext cx="1925640" cy="1687320"/>
          </a:xfrm>
          <a:prstGeom prst="rect">
            <a:avLst/>
          </a:prstGeom>
          <a:ln w="0">
            <a:noFill/>
          </a:ln>
        </p:spPr>
      </p:pic>
      <p:pic>
        <p:nvPicPr>
          <p:cNvPr id="68" name="Picture 17" descr=""/>
          <p:cNvPicPr/>
          <p:nvPr/>
        </p:nvPicPr>
        <p:blipFill>
          <a:blip r:embed="rId3"/>
          <a:stretch/>
        </p:blipFill>
        <p:spPr>
          <a:xfrm>
            <a:off x="2832120" y="4981680"/>
            <a:ext cx="1727280" cy="1726920"/>
          </a:xfrm>
          <a:prstGeom prst="rect">
            <a:avLst/>
          </a:prstGeom>
          <a:ln w="0">
            <a:noFill/>
          </a:ln>
        </p:spPr>
      </p:pic>
      <p:pic>
        <p:nvPicPr>
          <p:cNvPr id="69" name="Picture 18" descr=""/>
          <p:cNvPicPr/>
          <p:nvPr/>
        </p:nvPicPr>
        <p:blipFill>
          <a:blip r:embed="rId4"/>
          <a:stretch/>
        </p:blipFill>
        <p:spPr>
          <a:xfrm>
            <a:off x="5397480" y="4292640"/>
            <a:ext cx="3289320" cy="2463840"/>
          </a:xfrm>
          <a:prstGeom prst="rect">
            <a:avLst/>
          </a:prstGeom>
          <a:ln w="0">
            <a:noFill/>
          </a:ln>
        </p:spPr>
      </p:pic>
      <p:pic>
        <p:nvPicPr>
          <p:cNvPr id="70" name="Picture 2" descr=""/>
          <p:cNvPicPr/>
          <p:nvPr/>
        </p:nvPicPr>
        <p:blipFill>
          <a:blip r:embed="rId5"/>
          <a:stretch/>
        </p:blipFill>
        <p:spPr>
          <a:xfrm>
            <a:off x="2822400" y="2597040"/>
            <a:ext cx="2260800" cy="22608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68"/>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6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72" name="Picture 7" descr="article-2509116-19697ECC00000578-293_634x778.jpg"/>
          <p:cNvPicPr/>
          <p:nvPr/>
        </p:nvPicPr>
        <p:blipFill>
          <a:blip r:embed="rId1"/>
          <a:stretch/>
        </p:blipFill>
        <p:spPr>
          <a:xfrm>
            <a:off x="1801800" y="0"/>
            <a:ext cx="5589720" cy="68580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74" name="Picture 2" descr="1282876442Journalist.jpg"/>
          <p:cNvPicPr/>
          <p:nvPr/>
        </p:nvPicPr>
        <p:blipFill>
          <a:blip r:embed="rId1"/>
          <a:stretch/>
        </p:blipFill>
        <p:spPr>
          <a:xfrm>
            <a:off x="1914480" y="0"/>
            <a:ext cx="5486400" cy="68580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76" name="Picture 4" descr="fridge1.jpg"/>
          <p:cNvPicPr/>
          <p:nvPr/>
        </p:nvPicPr>
        <p:blipFill>
          <a:blip r:embed="rId1"/>
          <a:stretch/>
        </p:blipFill>
        <p:spPr>
          <a:xfrm>
            <a:off x="1881360" y="0"/>
            <a:ext cx="5486400" cy="68580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15T21:26:43Z</dcterms:created>
  <dc:creator>Cheryl Ellerbrock</dc:creator>
  <dc:description/>
  <dc:language>en-US</dc:language>
  <cp:lastModifiedBy>Don Fuller</cp:lastModifiedBy>
  <dcterms:modified xsi:type="dcterms:W3CDTF">2015-09-15T17:29:35Z</dcterms:modified>
  <cp:revision>28</cp:revision>
  <dc:subject/>
  <dc:title>What’s in Your Fridge?:  SES and Status Symbols</dc:title>
</cp:coreProperties>
</file>