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4DD6-4ECC-4919-AE6B-7D41EA127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http://www.designindaba.com/sites/default/files/node/news/16414/gallery/pedro30_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0841-15BD-442E-A138-9C7687401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4FCF-86CF-4EAA-A5C1-4F4A4A3ED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odumedia.com/mexicos-drug-war-50000-dead-in-6-years/thousands-of-guns-are-destroyed-in-ciudad-juarez-chihuahua-state-on-february-16-2012-at-least-6000-rifles-and-pistols-seized-from-drugs-cartels-were-destroyed-by-members-of-the-mexican-army-je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redit: (Jesus Alcazar/AFP/Getty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E5FE-F3E1-4868-B9F7-41324CCF3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http://www.dailymail.co.uk/news/article-2278575/Pedro-Reyes-The-Mexican-artist-makes-musical-instruments-firearm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2082-B49D-4046-A42A-C40DD599B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1EF-94A9-4C60-AC3D-C4A89EE2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837-7D8A-422B-9ABE-CD887549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591-5DE5-4F43-9CED-ABD3C012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244-B636-4857-91A1-3FA92B6C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A37-1103-4909-A797-6F652AA7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0BF-35B8-42F8-9D1F-8E369D1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ABB-328E-4EF1-9E18-EB429C0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213-437C-48CE-B3F2-D6C2E89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125-7617-4A86-8899-91CE4A3A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6DE-50EB-428A-87BC-B7029EA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2AC-78FA-4FB9-BE29-DCE71578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DF3-1F16-4DB7-A3E8-DC34F41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BDA5-F0D1-43F1-B78D-3F477FF05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is man hol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ottawacitizen.com/life/cms/binary/8153760.jpg?size=620x400s"/>
          <p:cNvPicPr/>
          <p:nvPr/>
        </p:nvPicPr>
        <p:blipFill>
          <a:blip r:embed="rId1"/>
          <a:stretch/>
        </p:blipFill>
        <p:spPr>
          <a:xfrm>
            <a:off x="1447920" y="1523880"/>
            <a:ext cx="5905440" cy="3810240"/>
          </a:xfrm>
          <a:prstGeom prst="rect">
            <a:avLst/>
          </a:prstGeom>
          <a:ln w="0">
            <a:noFill/>
          </a:ln>
        </p:spPr>
      </p:pic>
      <p:sp>
        <p:nvSpPr>
          <p:cNvPr id="50" name="Title 3"/>
          <p:cNvSpPr/>
          <p:nvPr/>
        </p:nvSpPr>
        <p:spPr>
          <a:xfrm>
            <a:off x="38088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t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designindaba.com/sites/default/files/node/news/16414/gallery/pedro30_0.jpg"/>
          <p:cNvPicPr/>
          <p:nvPr/>
        </p:nvPicPr>
        <p:blipFill>
          <a:blip r:embed="rId1"/>
          <a:stretch/>
        </p:blipFill>
        <p:spPr>
          <a:xfrm>
            <a:off x="685800" y="1295280"/>
            <a:ext cx="751824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view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koreionz.com/wp-content/uploads/2012/10/pedro-reyes.jpg"/>
          <p:cNvPicPr/>
          <p:nvPr/>
        </p:nvPicPr>
        <p:blipFill>
          <a:blip r:embed="rId1"/>
          <a:stretch/>
        </p:blipFill>
        <p:spPr>
          <a:xfrm>
            <a:off x="380880" y="590400"/>
            <a:ext cx="6096240" cy="400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2362320" y="5105520"/>
            <a:ext cx="59436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I am transforming] agents of death into instruments of life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dro Rey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57200" y="131760"/>
            <a:ext cx="8255160" cy="5499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385920" y="5703840"/>
            <a:ext cx="8584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uns destroyed in Ciudad Juárez, Chihuahua State,  February 16, 2012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t least 6,000 rifles and pistols seized from drugs cartels were destroyed by the Mexican Army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Top gun: Mexican sculptor Pedro Reyes pictured next to an instrument made out of used weapons that mimics the sound of a bass guitar"/>
          <p:cNvPicPr/>
          <p:nvPr/>
        </p:nvPicPr>
        <p:blipFill>
          <a:blip r:embed="rId1"/>
          <a:stretch/>
        </p:blipFill>
        <p:spPr>
          <a:xfrm>
            <a:off x="533520" y="576360"/>
            <a:ext cx="78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blog.pedroreyes.net/wp-content/uploads/2012/09/Captura-de-pantalla-2012-08-08-a-las-13.59.49.png"/>
          <p:cNvPicPr/>
          <p:nvPr/>
        </p:nvPicPr>
        <p:blipFill>
          <a:blip r:embed="rId1"/>
          <a:stretch/>
        </p:blipFill>
        <p:spPr>
          <a:xfrm>
            <a:off x="533520" y="1143000"/>
            <a:ext cx="8623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7:22:19Z</dcterms:created>
  <dc:creator>Cruz, Barbara</dc:creator>
  <dc:description/>
  <dc:language>en-US</dc:language>
  <cp:lastModifiedBy>Don Fuller</cp:lastModifiedBy>
  <dcterms:modified xsi:type="dcterms:W3CDTF">2014-01-21T17:01:20Z</dcterms:modified>
  <cp:revision>6</cp:revision>
  <dc:subject/>
  <dc:title>PowerPoint Presentation</dc:title>
</cp:coreProperties>
</file>