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6D9EC-03C9-4546-855E-2DE55BE9E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90BF-AFD1-45AD-AC00-C214BA12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C964-F492-4959-B925-757FEE5F3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F37D-8DDE-48F1-A7E3-273DD35E0D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A592-70AC-4231-8ED4-2AC609F8F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0310D-04E2-44EC-97A5-16AE12868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1F22-30E5-479A-8197-AD6102C25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65AA-2D95-4967-878C-4FDE46CF1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8915C-D1C9-46AE-9DF9-7B068E162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F12C-F3AA-4669-9D30-5C06FE480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99739-F11E-4E42-874B-CFCBA3FDA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8EC35-A5CD-44C3-A2D5-6050F4F2C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1BD33-A25D-47D9-B397-EB5F89C533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raphicstudio.usf.edu/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6"/>
          <p:cNvSpPr/>
          <p:nvPr/>
        </p:nvSpPr>
        <p:spPr>
          <a:xfrm>
            <a:off x="915840" y="1601640"/>
            <a:ext cx="7313760" cy="457056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33520" y="152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  <a:ea typeface="Tahoma"/>
              </a:rPr>
              <a:t>Sin título (El Gallo) [Untitled (The Rooster)]</a:t>
            </a:r>
            <a:br>
              <a:rPr sz="40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 Digital photograph mounted and laminated on foam board, with pins and thread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48 x 59 ¾ inches</a:t>
            </a:r>
            <a:br>
              <a:rPr sz="8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7" descr="SinTitulo2"/>
          <p:cNvPicPr/>
          <p:nvPr/>
        </p:nvPicPr>
        <p:blipFill>
          <a:blip r:embed="rId1"/>
          <a:stretch/>
        </p:blipFill>
        <p:spPr>
          <a:xfrm>
            <a:off x="1828800" y="1828800"/>
            <a:ext cx="54864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1640" y="838080"/>
            <a:ext cx="4419720" cy="28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 la Serie para transformar la palabra política en hechos, finalmente II (From the Series To Transform the Political Word into Facts, Finally II),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2009</a:t>
            </a:r>
            <a:br>
              <a:rPr sz="4000"/>
            </a:br>
            <a:br>
              <a:rPr sz="3200"/>
            </a:b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Black and white digital photograph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on metal and stucco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32 x 4 ¼ inch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4"/>
          <p:cNvSpPr/>
          <p:nvPr/>
        </p:nvSpPr>
        <p:spPr>
          <a:xfrm>
            <a:off x="838080" y="5943600"/>
            <a:ext cx="7925040" cy="6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Images provided by USF Graphicstudio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ahoma"/>
                <a:ea typeface="Tahoma"/>
                <a:hlinkClick r:id="rId1"/>
              </a:rPr>
              <a:t>http://www.graphicstudio.usf.edu/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Materials and dimensions from boo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DO" sz="1200" spc="-1" strike="noStrike">
                <a:solidFill>
                  <a:srgbClr val="000000"/>
                </a:solidFill>
                <a:latin typeface="Tahoma"/>
                <a:ea typeface="Tahoma"/>
              </a:rPr>
              <a:t>Garaicoa, Carlos.  </a:t>
            </a:r>
            <a:r>
              <a:rPr b="0" i="1" lang="es-DO" sz="1200" spc="-1" strike="noStrike">
                <a:solidFill>
                  <a:srgbClr val="000000"/>
                </a:solidFill>
                <a:latin typeface="Tahoma"/>
                <a:ea typeface="Tahoma"/>
              </a:rPr>
              <a:t>La Enmienda Que Hay En Mí</a:t>
            </a:r>
            <a:r>
              <a:rPr b="0" lang="es-DO" sz="1200" spc="-1" strike="noStrike">
                <a:solidFill>
                  <a:srgbClr val="000000"/>
                </a:solidFill>
                <a:latin typeface="Tahoma"/>
                <a:ea typeface="Tahoma"/>
              </a:rPr>
              <a:t>.  Museo Nacional de Bellas Artes, La Habana,  2009.  Pr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9" descr="ParaTransformarLaPalabraPoliticaEnHechos2"/>
          <p:cNvPicPr/>
          <p:nvPr/>
        </p:nvPicPr>
        <p:blipFill>
          <a:blip r:embed="rId2"/>
          <a:stretch/>
        </p:blipFill>
        <p:spPr>
          <a:xfrm>
            <a:off x="914400" y="304920"/>
            <a:ext cx="3657600" cy="5537160"/>
          </a:xfrm>
          <a:prstGeom prst="rect">
            <a:avLst/>
          </a:prstGeom>
          <a:ln w="0">
            <a:noFill/>
          </a:ln>
        </p:spPr>
      </p:pic>
      <p:sp>
        <p:nvSpPr>
          <p:cNvPr id="47" name="Text Box 10"/>
          <p:cNvSpPr/>
          <p:nvPr/>
        </p:nvSpPr>
        <p:spPr>
          <a:xfrm>
            <a:off x="5257800" y="1905120"/>
            <a:ext cx="2971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18T18:21:31Z</dcterms:created>
  <dc:creator>Rina</dc:creator>
  <dc:description/>
  <dc:language>en-US</dc:language>
  <cp:lastModifiedBy>Don Fuller</cp:lastModifiedBy>
  <dcterms:modified xsi:type="dcterms:W3CDTF">2010-09-27T20:58:10Z</dcterms:modified>
  <cp:revision>8</cp:revision>
  <dc:subject/>
  <dc:title>Sin Titulo</dc:title>
</cp:coreProperties>
</file>