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F087-3428-4680-80E2-C2946FD61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6C1D9-F3DC-4E08-9F09-F18681315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867D4-949D-41C4-85C1-AA9047148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4A1B3-2526-4729-8619-60E8AC76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D48-B6F6-4F34-9C9D-618ACEE87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3E19A-E223-4B3B-B6DC-8945707F6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F1960-1667-405D-A8D7-F4B56A7F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4B0E-538B-443F-8E9F-FD2C15909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E91A-FA63-4E54-8D1C-898EDCB7D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9AEC1-1945-4BE5-952F-B9D5842AC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F3BD-6F76-499A-AF68-2BE522AD2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4741D-BEED-463D-BB0D-4BE9451F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58F4E-56CD-4648-A028-1E56CF4C1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theodora.com/wfb/photos/cuba/cuba_photos_2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Cuba Pre-Rev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Photo Ess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Universal health care in 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3" descr="27depalma.600.jpg"/>
          <p:cNvPicPr/>
          <p:nvPr/>
        </p:nvPicPr>
        <p:blipFill>
          <a:blip r:embed="rId1"/>
          <a:srcRect l="-7269" t="0" r="-72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004760" y="6400800"/>
            <a:ext cx="474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www.nytimes.com/2007/05/27/weekinreview/27depalma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Ordinary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914400" y="640080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www.timesonline.co.uk/tol/news/world/us_and_americas/article5420795.e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Female Sold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cu-cutie.jpg"/>
          <p:cNvPicPr/>
          <p:nvPr/>
        </p:nvPicPr>
        <p:blipFill>
          <a:blip r:embed="rId1"/>
          <a:srcRect l="-13737" t="0" r="-1373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900360" y="6400800"/>
            <a:ext cx="455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i491.photobucket.com/albums/rr275/luap_naj/cu-cutie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Pro-Revolution Rally in the Plaza de la Revolu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14400" y="6400800"/>
            <a:ext cx="845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http://havanajournal.com/images/uploads/may-day-cuba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may-day-cuba.jpg"/>
          <p:cNvPicPr/>
          <p:nvPr/>
        </p:nvPicPr>
        <p:blipFill>
          <a:blip r:embed="rId1"/>
          <a:srcRect l="-82579" t="0" r="-82579" b="0"/>
          <a:stretch/>
        </p:blipFill>
        <p:spPr>
          <a:xfrm>
            <a:off x="304920" y="17226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Ladies in White” protest in Havana, May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3" descr="8745a33697d30eb14dcef3b30017-grande.jpg"/>
          <p:cNvPicPr/>
          <p:nvPr/>
        </p:nvPicPr>
        <p:blipFill>
          <a:blip r:embed="rId1"/>
          <a:srcRect l="-9828" t="0" r="-9828" b="0"/>
          <a:stretch/>
        </p:blipFill>
        <p:spPr>
          <a:xfrm>
            <a:off x="609480" y="1295280"/>
            <a:ext cx="7848720" cy="4316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143000" y="57150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undreds of Cuban government supporters have heckled members of the "Ladies in White" rights group marching in protest through the streets of Havana. The women - wives and mothers of jailed dissidents - are staging a week of protests on the anniversary of Fidel Castro's 2003 Black Spring crack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to retrieved from: http://article.wn.com/view/2010/03/19/Castro_supporters_heckle_Ladies_in_White_protesters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apitolio de la Habana. 193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(Capitol in Havan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914400" y="6477120"/>
            <a:ext cx="822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949. Familia Cubana vacacionando en la Playa Itabo en Boca Cieg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Cuban family vacationing in Itabo Bea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14400" y="647712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hoto of Cuba by Walker Evan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“Starving Cuban Family” 193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06_Evans_300dpi_a.jpg"/>
          <p:cNvPicPr/>
          <p:nvPr/>
        </p:nvPicPr>
        <p:blipFill>
          <a:blip r:embed="rId1"/>
          <a:srcRect l="-4947" t="0" r="-4947" b="0"/>
          <a:stretch/>
        </p:blipFill>
        <p:spPr>
          <a:xfrm>
            <a:off x="914400" y="175248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04680" y="6400800"/>
            <a:ext cx="392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www.revistadearte.com/ wp-content/uploads/2009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revolutionary M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pre_revolutionary_mansion_havana_cuba_photo_galen_r_frysinger.jpg"/>
          <p:cNvPicPr/>
          <p:nvPr/>
        </p:nvPicPr>
        <p:blipFill>
          <a:blip r:embed="rId1"/>
          <a:srcRect l="-6542" t="0" r="-6542" b="0"/>
          <a:stretch/>
        </p:blipFill>
        <p:spPr>
          <a:xfrm>
            <a:off x="45720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903600" y="6477120"/>
            <a:ext cx="43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heodora.com/wfb/photos/cuba/cuba_photos_23.h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Concurso de Belleza en Cuba. 1950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Cuban Beauty Contest,1950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914400" y="64771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elio, Caito, Celia y la Son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63060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5800" y="632448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uba Post-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hoto E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riumph of the Revolution, 19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PT-AK583_cubbas_G_20081226181607.jp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896760" y="6477120"/>
            <a:ext cx="568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si.wsj.net/public/resources/images/PT-AK583_cubbas_G_20081226181607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8:03:14Z</dcterms:created>
  <dc:creator>Rina</dc:creator>
  <dc:description/>
  <dc:language>en-US</dc:language>
  <cp:lastModifiedBy>Don Fuller</cp:lastModifiedBy>
  <dcterms:modified xsi:type="dcterms:W3CDTF">2010-09-27T20:56:49Z</dcterms:modified>
  <cp:revision>15</cp:revision>
  <dc:subject/>
  <dc:title>Cuba Pre-Revolution</dc:title>
</cp:coreProperties>
</file>