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49AD8-203E-4CD9-A46B-34B21D79F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4C97-1BA7-455F-86C7-174549590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AF97-B060-43BE-A1D0-36F3D6C2D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6E87-5132-4D93-8D28-695E2489D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8B5E7-49F1-405B-A0FF-017D04297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6DB2-5C63-4096-84EF-EEE08D9F5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942FF-84FA-443C-8748-281E27F0C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B26CE-3B3B-425D-9BCA-A2218527A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4BCE-6665-44DA-B197-67FC53E9C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833F-A740-4869-9EF6-1AE480ED2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308D-7203-4CC8-8219-E38200D14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373B-D7C8-41F3-8A01-05CC3866B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9D9BE-04BD-4B54-91D2-E3C9B1BFC1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lsf-lau.com/lau-street-style-on-wednesday-march-18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www.todayandtomorrow.net/2006/10/31/art-force-one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flickr.com/photos/holistichenna/collections/72157607407444655/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  <a:ea typeface="Tahoma"/>
              </a:rPr>
              <a:t>Everyday 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  <a:ea typeface="Tahoma"/>
              </a:rPr>
              <a:t>Graffiti Mural in Schoo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4"/>
          <p:cNvSpPr/>
          <p:nvPr/>
        </p:nvSpPr>
        <p:spPr>
          <a:xfrm>
            <a:off x="457200" y="6248520"/>
            <a:ext cx="7696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trieved from:  </a:t>
            </a:r>
            <a:r>
              <a:rPr b="0" lang="en-US" sz="9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lsf-lau.com/lau-street-style-on-wednesday-march-18/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5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Tahoma"/>
              </a:rPr>
              <a:t>Very colorful custom sneakers by Art Air Force 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3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457200" y="6095880"/>
            <a:ext cx="8093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5"/>
          <p:cNvSpPr/>
          <p:nvPr/>
        </p:nvSpPr>
        <p:spPr>
          <a:xfrm>
            <a:off x="609480" y="6248520"/>
            <a:ext cx="7696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trieved from:  </a:t>
            </a:r>
            <a:r>
              <a:rPr b="0" lang="en-US" sz="9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todayandtomorrow.net/2006/10/31/art-force-one/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  <a:ea typeface="Tahoma"/>
              </a:rPr>
              <a:t>Henna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457200" y="6248520"/>
            <a:ext cx="8077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trieved from:  http://www.holistichenna.com/henna_art_gallery_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9" descr="wattlecreek_pics_12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895480" y="1295280"/>
            <a:ext cx="3365640" cy="45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  <a:ea typeface="Tahoma"/>
              </a:rPr>
              <a:t>Tattoo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Nice Polynesian Tribal Design On The Foot Source: http://farm1.static.flickr.com/54/165712406_89db6268aa.jpg?v=0 By Jon Poulson"/>
          <p:cNvPicPr/>
          <p:nvPr/>
        </p:nvPicPr>
        <p:blipFill>
          <a:blip r:embed="rId1"/>
          <a:stretch/>
        </p:blipFill>
        <p:spPr>
          <a:xfrm>
            <a:off x="1905120" y="1295280"/>
            <a:ext cx="5638680" cy="4240440"/>
          </a:xfrm>
          <a:prstGeom prst="rect">
            <a:avLst/>
          </a:prstGeom>
          <a:ln w="0">
            <a:noFill/>
          </a:ln>
        </p:spPr>
      </p:pic>
      <p:sp>
        <p:nvSpPr>
          <p:cNvPr id="54" name="Text Box 6"/>
          <p:cNvSpPr/>
          <p:nvPr/>
        </p:nvSpPr>
        <p:spPr>
          <a:xfrm>
            <a:off x="533520" y="5867280"/>
            <a:ext cx="800100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trieved from:  http://hubpages.com/hub/Plumeria-Tattoo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  <a:ea typeface="Tahoma"/>
              </a:rPr>
              <a:t>Body Pierc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INSERT DESCRIPTION"/>
          <p:cNvPicPr/>
          <p:nvPr/>
        </p:nvPicPr>
        <p:blipFill>
          <a:blip r:embed="rId1"/>
          <a:stretch/>
        </p:blipFill>
        <p:spPr>
          <a:xfrm>
            <a:off x="2057400" y="1905120"/>
            <a:ext cx="5076720" cy="32954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7"/>
          <p:cNvSpPr/>
          <p:nvPr/>
        </p:nvSpPr>
        <p:spPr>
          <a:xfrm>
            <a:off x="457200" y="5562720"/>
            <a:ext cx="8077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trieved from:  http://well.blogs.nytimes.com/2008/06/13/the-complications-of-body-piercing/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  <a:ea typeface="Tahoma"/>
              </a:rPr>
              <a:t>New York City Subway Art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Location: 14th Street/Union Squ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0" name="Text Box 4"/>
          <p:cNvSpPr/>
          <p:nvPr/>
        </p:nvSpPr>
        <p:spPr>
          <a:xfrm>
            <a:off x="380880" y="6248520"/>
            <a:ext cx="853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trieved from:  http://www.nycsubway.org/perl/show?38617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  <a:ea typeface="Tahoma"/>
              </a:rPr>
              <a:t>CD Cover Ar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6629400" cy="364644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762120" y="5791320"/>
            <a:ext cx="7772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Retrieved from:  http://www.amazon.com/Raymond-v-Usher/dp/B002RAREAK/ref=sr_1_1?ie=UTF8&amp;s=music&amp;qid=1270769188&amp;sr=8-1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8T22:51:42Z</dcterms:created>
  <dc:creator>Rina</dc:creator>
  <dc:description/>
  <dc:language>en-US</dc:language>
  <cp:lastModifiedBy>Don Fuller</cp:lastModifiedBy>
  <dcterms:modified xsi:type="dcterms:W3CDTF">2010-09-28T17:25:49Z</dcterms:modified>
  <cp:revision>13</cp:revision>
  <dc:subject/>
  <dc:title>Everyday Art</dc:title>
</cp:coreProperties>
</file>