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4CEB-C68D-4BB4-ABD7-D5D5B12C0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A39B-28C0-4AE8-BF6E-7FDEC3194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68D6-C227-4CCF-8D5A-D5FBA4E31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0A44A-B911-439C-981B-98CE4ED610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B19C-FE03-434F-AEDD-68631B643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658-F023-4116-A5CB-BAADB42AD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A187E-AE55-42E7-B359-5DF3C181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1C54D-02B4-4392-92D4-61D8A3D9D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0EDE-CECA-4875-9F37-1032B9129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DA910-FBB6-4E9B-9F3C-EC6CC8934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2FCA-0015-43F7-82E8-1F415A179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49EA-5CAC-4496-97FC-9DF1675E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66601-9744-4D39-A7F2-C26F7A8116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theodora.com/wfb/photos/cuba/cuba_photos_23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://politicacubana.blogspot.com/2007/10/fotos-de-cuba-antes-de-la-revolucion-la.html" TargetMode="Externa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Cuba Pre-Revolu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Universal health care in Cub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Content Placeholder 3" descr="27depalma.600.jpg"/>
          <p:cNvPicPr/>
          <p:nvPr/>
        </p:nvPicPr>
        <p:blipFill>
          <a:blip r:embed="rId1"/>
          <a:srcRect l="-7269" t="0" r="-7269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8" name="TextBox 5"/>
          <p:cNvSpPr/>
          <p:nvPr/>
        </p:nvSpPr>
        <p:spPr>
          <a:xfrm>
            <a:off x="1004760" y="6400800"/>
            <a:ext cx="4740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nytimes.com/2007/05/27/weekinreview/27depalma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Ordinary D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"/>
          <p:cNvSpPr/>
          <p:nvPr/>
        </p:nvSpPr>
        <p:spPr>
          <a:xfrm>
            <a:off x="914400" y="6400800"/>
            <a:ext cx="7162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www.timesonline.co.uk/tol/news/world/us_and_americas/article5420795.ec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Female Soldi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Content Placeholder 3" descr="cu-cutie.jpg"/>
          <p:cNvPicPr/>
          <p:nvPr/>
        </p:nvPicPr>
        <p:blipFill>
          <a:blip r:embed="rId1"/>
          <a:srcRect l="-13737" t="0" r="-13737" b="0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74" name="TextBox 4"/>
          <p:cNvSpPr/>
          <p:nvPr/>
        </p:nvSpPr>
        <p:spPr>
          <a:xfrm>
            <a:off x="900360" y="6400800"/>
            <a:ext cx="45561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i491.photobucket.com/albums/rr275/luap_naj/cu-cutie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24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Pro-Revolution Rally in the Plaza de la Revolució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/>
          <p:cNvSpPr/>
          <p:nvPr/>
        </p:nvSpPr>
        <p:spPr>
          <a:xfrm>
            <a:off x="914400" y="6400800"/>
            <a:ext cx="8458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http://havanajournal.com/images/uploads/may-day-cuba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Content Placeholder 7" descr="may-day-cuba.jpg"/>
          <p:cNvPicPr/>
          <p:nvPr/>
        </p:nvPicPr>
        <p:blipFill>
          <a:blip r:embed="rId1"/>
          <a:srcRect l="-82579" t="0" r="-82579" b="0"/>
          <a:stretch/>
        </p:blipFill>
        <p:spPr>
          <a:xfrm>
            <a:off x="304920" y="1722600"/>
            <a:ext cx="822960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“</a:t>
            </a: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Ladies in White” protest in Havana, May, 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Content Placeholder 3" descr="8745a33697d30eb14dcef3b30017-grande.jpg"/>
          <p:cNvPicPr/>
          <p:nvPr/>
        </p:nvPicPr>
        <p:blipFill>
          <a:blip r:embed="rId1"/>
          <a:srcRect l="-9828" t="0" r="-9828" b="0"/>
          <a:stretch/>
        </p:blipFill>
        <p:spPr>
          <a:xfrm>
            <a:off x="609480" y="1295280"/>
            <a:ext cx="7848720" cy="4316400"/>
          </a:xfrm>
          <a:prstGeom prst="rect">
            <a:avLst/>
          </a:prstGeom>
          <a:ln w="0">
            <a:noFill/>
          </a:ln>
        </p:spPr>
      </p:pic>
      <p:sp>
        <p:nvSpPr>
          <p:cNvPr id="80" name="TextBox 5"/>
          <p:cNvSpPr/>
          <p:nvPr/>
        </p:nvSpPr>
        <p:spPr>
          <a:xfrm>
            <a:off x="1143000" y="5715000"/>
            <a:ext cx="7010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Hundreds of Cuban government supporters have heckled members of the "Ladies in White" rights group marching in protest through the streets of Havana. The women - wives and mothers of jailed dissidents - are staging a week of protests on the anniversary of Fidel Castro's 2003 Black Spring crackdown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  <a:ea typeface="Tahoma"/>
              </a:rPr>
              <a:t>Photo retrieved from: http://article.wn.com/view/2010/03/19/Castro_supporters_heckle_Ladies_in_White_protesters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Capitolio de la Habana. 1936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(Capitol in Havana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Text Box 4"/>
          <p:cNvSpPr/>
          <p:nvPr/>
        </p:nvSpPr>
        <p:spPr>
          <a:xfrm>
            <a:off x="914400" y="6477120"/>
            <a:ext cx="82296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1949. Familia Cubana vacacionando en la Playa Itabo en Boca Ciega.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(Cuban family vacationing in Itabo Beach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48" name="Text Box 4"/>
          <p:cNvSpPr/>
          <p:nvPr/>
        </p:nvSpPr>
        <p:spPr>
          <a:xfrm>
            <a:off x="914400" y="6477120"/>
            <a:ext cx="8305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Photo of Cuba by Walker Evans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  <a:ea typeface="Tahoma"/>
              </a:rPr>
              <a:t>“Starving Cuban Family” 1933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Content Placeholder 3" descr="06_Evans_300dpi_a.jpg"/>
          <p:cNvPicPr/>
          <p:nvPr/>
        </p:nvPicPr>
        <p:blipFill>
          <a:blip r:embed="rId1"/>
          <a:srcRect l="-4947" t="0" r="-4947" b="0"/>
          <a:stretch/>
        </p:blipFill>
        <p:spPr>
          <a:xfrm>
            <a:off x="914400" y="1752480"/>
            <a:ext cx="7238880" cy="3981600"/>
          </a:xfrm>
          <a:prstGeom prst="rect">
            <a:avLst/>
          </a:prstGeom>
          <a:ln w="0">
            <a:noFill/>
          </a:ln>
        </p:spPr>
      </p:pic>
      <p:sp>
        <p:nvSpPr>
          <p:cNvPr id="51" name="TextBox 4"/>
          <p:cNvSpPr/>
          <p:nvPr/>
        </p:nvSpPr>
        <p:spPr>
          <a:xfrm>
            <a:off x="904680" y="6400800"/>
            <a:ext cx="3925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www.revistadearte.com/ wp-content/uploads/2009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rerevolutionary Man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pre_revolutionary_mansion_havana_cuba_photo_galen_r_frysinger.jpg"/>
          <p:cNvPicPr/>
          <p:nvPr/>
        </p:nvPicPr>
        <p:blipFill>
          <a:blip r:embed="rId1"/>
          <a:srcRect l="-6542" t="0" r="-6542" b="0"/>
          <a:stretch/>
        </p:blipFill>
        <p:spPr>
          <a:xfrm>
            <a:off x="457200" y="152388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4" name="TextBox 6"/>
          <p:cNvSpPr/>
          <p:nvPr/>
        </p:nvSpPr>
        <p:spPr>
          <a:xfrm>
            <a:off x="903600" y="6477120"/>
            <a:ext cx="4333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theodora.com/wfb/photos/cuba/cuba_photos_23.html</a:t>
            </a: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Concurso de Belleza en Cuba. 1950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Tahoma"/>
                <a:ea typeface="Tahoma"/>
              </a:rPr>
              <a:t>(Cuban Beauty Contest,1950s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4"/>
          <p:cNvSpPr/>
          <p:nvPr/>
        </p:nvSpPr>
        <p:spPr>
          <a:xfrm>
            <a:off x="914400" y="6477120"/>
            <a:ext cx="80773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elio, Caito, Celia y la Sonor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"/>
          <p:cNvPicPr/>
          <p:nvPr/>
        </p:nvPicPr>
        <p:blipFill>
          <a:blip r:embed="rId1"/>
          <a:stretch/>
        </p:blipFill>
        <p:spPr>
          <a:xfrm>
            <a:off x="2286000" y="1828800"/>
            <a:ext cx="3630600" cy="3352680"/>
          </a:xfrm>
          <a:prstGeom prst="rect">
            <a:avLst/>
          </a:prstGeom>
          <a:ln w="0">
            <a:noFill/>
          </a:ln>
        </p:spPr>
      </p:pic>
      <p:sp>
        <p:nvSpPr>
          <p:cNvPr id="60" name="Text Box 4"/>
          <p:cNvSpPr/>
          <p:nvPr/>
        </p:nvSpPr>
        <p:spPr>
          <a:xfrm>
            <a:off x="685800" y="6324480"/>
            <a:ext cx="7696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 : </a:t>
            </a:r>
            <a:r>
              <a:rPr b="0" lang="en-US" sz="9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politicacubana.blogspot.com/2007/10/fotos-de-cuba-antes-de-la-revolucion-la.html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Cuba Post-Revolu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  <a:ea typeface="Tahoma"/>
              </a:rPr>
              <a:t>Photo Essa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  <a:ea typeface="Tahoma"/>
              </a:rPr>
              <a:t>Triumph of the Revolution, 195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Content Placeholder 5" descr="PT-AK583_cubbas_G_20081226181607.jpg"/>
          <p:cNvPicPr/>
          <p:nvPr/>
        </p:nvPicPr>
        <p:blipFill>
          <a:blip r:embed="rId1"/>
          <a:srcRect l="-10662" t="0" r="-10662" b="0"/>
          <a:stretch/>
        </p:blipFill>
        <p:spPr>
          <a:xfrm>
            <a:off x="53352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65" name="TextBox 6"/>
          <p:cNvSpPr/>
          <p:nvPr/>
        </p:nvSpPr>
        <p:spPr>
          <a:xfrm>
            <a:off x="896760" y="6477120"/>
            <a:ext cx="5680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hoto retrieved from:  http://si.wsj.net/public/resources/images/PT-AK583_cubbas_G_20081226181607.jpg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1T18:03:14Z</dcterms:created>
  <dc:creator>Rina</dc:creator>
  <dc:description/>
  <dc:language>en-US</dc:language>
  <cp:lastModifiedBy>Don Fuller</cp:lastModifiedBy>
  <dcterms:modified xsi:type="dcterms:W3CDTF">2010-09-27T20:56:49Z</dcterms:modified>
  <cp:revision>15</cp:revision>
  <dc:subject/>
  <dc:title>Cuba Pre-Revolution</dc:title>
</cp:coreProperties>
</file>