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EC508-B037-437D-AEBA-B542BE219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41CB-E497-492B-93B7-1A0978FFD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9998-82D2-4D2D-A7D1-0439B7F49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591B-7869-4FEC-8F3F-8BF2BC9D8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9DE0-F1F1-4032-8115-FF03E5C78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3E049-5AF3-4BE6-AC08-80E4F5A2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763A-5989-434E-86DE-64A715F9A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74145-EE16-4454-886D-0AC09FB3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E2CD-F4A0-4C76-B8D3-E8A3C0E82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3826-C79F-40E2-A54D-F8972522D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173D-7035-452C-95E5-4839454A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3953-ADEF-4295-AF89-C5D5B12EE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429D-9CB3-4186-A5F2-065C5A7DDA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phicstudio.usf.ed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915840" y="1601640"/>
            <a:ext cx="7313760" cy="457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 título (El Gallo) [Untitled (The Rooster)]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Digital photograph mounted and laminated on foam board, with pins and threa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8 x 59 ¾ inches</a:t>
            </a: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inTitulo2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838080"/>
            <a:ext cx="4419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la Serie para transformar la palabra política en hechos, finalmente II (From the Series To Transform the Political Word into Facts, Finally II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9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ack and white digital photograp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 metal and stuc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 4 ¼ in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5943600"/>
            <a:ext cx="7925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mages provided by USF Graphicstudi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1"/>
              </a:rPr>
              <a:t>http://www.graphicstudio.usf.edu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aterials and dimensions from boo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Garaicoa, Carlos.  </a:t>
            </a:r>
            <a:r>
              <a:rPr b="0" i="1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La Enmienda Que Hay En Mí</a:t>
            </a: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.  Museo Nacional de Bellas Artes, La Habana,  2009.  Pr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ParaTransformarLaPalabraPoliticaEnHechos2"/>
          <p:cNvPicPr/>
          <p:nvPr/>
        </p:nvPicPr>
        <p:blipFill>
          <a:blip r:embed="rId2"/>
          <a:stretch/>
        </p:blipFill>
        <p:spPr>
          <a:xfrm>
            <a:off x="914400" y="304920"/>
            <a:ext cx="3657600" cy="5537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25780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8:21:31Z</dcterms:created>
  <dc:creator>Rina</dc:creator>
  <dc:description/>
  <dc:language>en-US</dc:language>
  <cp:lastModifiedBy>Don Fuller</cp:lastModifiedBy>
  <dcterms:modified xsi:type="dcterms:W3CDTF">2010-09-27T20:58:10Z</dcterms:modified>
  <cp:revision>8</cp:revision>
  <dc:subject/>
  <dc:title>Sin Titulo</dc:title>
</cp:coreProperties>
</file>