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F78-A81F-4DE2-B1BE-D5862C682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D4D7-0197-41CB-984F-837BABDEB7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53354-B74F-4523-800D-B467B81A3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67BB1-5279-47C0-A987-51F9D24420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842C-EF45-4409-A5C0-E3BE8AF97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D6CC-2255-4798-BF4D-35C1324A0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04726-7E97-4C5B-BB8B-62C50637F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F5A4-F4F6-41C2-880E-D354F191F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9689-B564-4518-9E03-4C4D82CC1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C40C-5E03-4C78-A4B9-8565688C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BFE76-F527-432A-8C37-AAC16EA3D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CD290-8E82-4643-91CB-202988556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3F35F-8FBE-4473-9A86-E6A4F9CA49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sf-lau.com/lau-street-style-on-wednesday-march-18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dayandtomorrow.net/2006/10/31/art-force-one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holistichenna/collections/72157607407444655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Everyday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Graffiti Mural in Scho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6248520"/>
            <a:ext cx="76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sf-lau.com/lau-street-style-on-wednesday-march-18/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Very colorful custom sneakers by Art Air Force 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457200" y="6095880"/>
            <a:ext cx="809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09480" y="6248520"/>
            <a:ext cx="769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odayandtomorrow.net/2006/10/31/art-force-one/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Hen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57200" y="6248520"/>
            <a:ext cx="807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www.holistichenna.com/henna_art_gallery_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wattlecreek_pics_1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295280"/>
            <a:ext cx="336564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Tatto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Nice Polynesian Tribal Design On The Foot Source: http://farm1.static.flickr.com/54/165712406_89db6268aa.jpg?v=0 By Jon Poulson"/>
          <p:cNvPicPr/>
          <p:nvPr/>
        </p:nvPicPr>
        <p:blipFill>
          <a:blip r:embed="rId1"/>
          <a:stretch/>
        </p:blipFill>
        <p:spPr>
          <a:xfrm>
            <a:off x="1905120" y="1295280"/>
            <a:ext cx="5638680" cy="4240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33520" y="5867280"/>
            <a:ext cx="8001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hubpages.com/hub/Plumeria-Tatto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Body Pierc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SERT DESCRIPTION"/>
          <p:cNvPicPr/>
          <p:nvPr/>
        </p:nvPicPr>
        <p:blipFill>
          <a:blip r:embed="rId1"/>
          <a:stretch/>
        </p:blipFill>
        <p:spPr>
          <a:xfrm>
            <a:off x="2057400" y="1905120"/>
            <a:ext cx="5076720" cy="329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457200" y="5562720"/>
            <a:ext cx="807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well.blogs.nytimes.com/2008/06/13/the-complications-of-body-pierci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New York City Subway Art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tion: 14th Street/Union Squ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80880" y="62485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www.nycsubway.org/perl/show?386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CD Cover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629400" cy="364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62120" y="5791320"/>
            <a:ext cx="777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www.amazon.com/Raymond-v-Usher/dp/B002RAREAK/ref=sr_1_1?ie=UTF8&amp;s=music&amp;qid=1270769188&amp;sr=8-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2:51:42Z</dcterms:created>
  <dc:creator>Rina</dc:creator>
  <dc:description/>
  <dc:language>en-US</dc:language>
  <cp:lastModifiedBy>Don Fuller</cp:lastModifiedBy>
  <dcterms:modified xsi:type="dcterms:W3CDTF">2010-09-28T17:25:49Z</dcterms:modified>
  <cp:revision>13</cp:revision>
  <dc:subject/>
  <dc:title>Everyday Art</dc:title>
</cp:coreProperties>
</file>