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22D4-79A8-403C-B3BD-FAB0DA45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C10-8EF0-43D3-8896-BE137CEE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689-7C5E-42E3-A750-5AF60678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CB0-794D-4992-8A6E-3B58718F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E9C-0479-48B4-AC0B-572B68E4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94B-32CE-41B4-B0F5-6328BA04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0209-CF95-4567-9BC9-70F61AE8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1FC-EE2F-4444-8B23-0F664C08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0A0-C7C2-4DDB-AF2D-6E9DA29A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6F7-7369-492B-AC65-443E8DD3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578-55A9-40A2-B090-518211FF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7DB-11C6-49F7-8535-59E61AE9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BB55-AE52-4843-9C19-F060967A9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oliticacubana.blogspot.com/2007/10/fotos-de-cuba-antes-de-la-revolucion-la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oliticacubana.blogspot.com/2007/10/fotos-de-cuba-antes-de-la-revolucion-la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theodora.com/wfb/photos/cuba/cuba_photos_23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politicacubana.blogspot.com/2007/10/fotos-de-cuba-antes-de-la-revolucion-la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politicacubana.blogspot.com/2007/10/fotos-de-cuba-antes-de-la-revolucion-la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  <a:ea typeface="Tahoma"/>
              </a:rPr>
              <a:t>Cuba Pre-Rev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  <a:ea typeface="Tahoma"/>
              </a:rPr>
              <a:t>Photo Ess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Universal health care in 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ntent Placeholder 3" descr="27depalma.600.jpg"/>
          <p:cNvPicPr/>
          <p:nvPr/>
        </p:nvPicPr>
        <p:blipFill>
          <a:blip r:embed="rId1"/>
          <a:srcRect l="-7269" t="0" r="-726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1004760" y="6400800"/>
            <a:ext cx="474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http://www.nytimes.com/2007/05/27/weekinreview/27depalma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Ordinary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914400" y="640080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http://www.timesonline.co.uk/tol/news/world/us_and_americas/article5420795.e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Female Sold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3" descr="cu-cutie.jpg"/>
          <p:cNvPicPr/>
          <p:nvPr/>
        </p:nvPicPr>
        <p:blipFill>
          <a:blip r:embed="rId1"/>
          <a:srcRect l="-13737" t="0" r="-1373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900360" y="6400800"/>
            <a:ext cx="455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http://i491.photobucket.com/albums/rr275/luap_naj/cu-cutie.jp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2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Pro-Revolution Rally in the Plaza de la Revolu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14400" y="6400800"/>
            <a:ext cx="845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http://havanajournal.com/images/uploads/may-day-cuba.jp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7" descr="may-day-cuba.jpg"/>
          <p:cNvPicPr/>
          <p:nvPr/>
        </p:nvPicPr>
        <p:blipFill>
          <a:blip r:embed="rId1"/>
          <a:srcRect l="-82579" t="0" r="-82579" b="0"/>
          <a:stretch/>
        </p:blipFill>
        <p:spPr>
          <a:xfrm>
            <a:off x="304920" y="17226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Ladies in White” protest in Havana, May,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ntent Placeholder 3" descr="8745a33697d30eb14dcef3b30017-grande.jpg"/>
          <p:cNvPicPr/>
          <p:nvPr/>
        </p:nvPicPr>
        <p:blipFill>
          <a:blip r:embed="rId1"/>
          <a:srcRect l="-9828" t="0" r="-9828" b="0"/>
          <a:stretch/>
        </p:blipFill>
        <p:spPr>
          <a:xfrm>
            <a:off x="609480" y="1295280"/>
            <a:ext cx="7848720" cy="43164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1143000" y="5715000"/>
            <a:ext cx="7010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undreds of Cuban government supporters have heckled members of the "Ladies in White" rights group marching in protest through the streets of Havana. The women - wives and mothers of jailed dissidents - are staging a week of protests on the anniversary of Fidel Castro's 2003 Black Spring crack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hoto retrieved from: http://article.wn.com/view/2010/03/19/Castro_supporters_heckle_Ladies_in_White_protesters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Capitolio de la Habana. 193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(Capitol in Havana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914400" y="6477120"/>
            <a:ext cx="822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 :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liticacubana.blogspot.com/2007/10/fotos-de-cuba-antes-de-la-revolucion-la.htm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1949. Familia Cubana vacacionando en la Playa Itabo en Boca Ciega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(Cuban family vacationing in Itabo Beac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914400" y="6477120"/>
            <a:ext cx="83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 :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liticacubana.blogspot.com/2007/10/fotos-de-cuba-antes-de-la-revolucion-la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hoto of Cuba by Walker Evan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“Starving Cuban Family” 1933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ontent Placeholder 3" descr="06_Evans_300dpi_a.jpg"/>
          <p:cNvPicPr/>
          <p:nvPr/>
        </p:nvPicPr>
        <p:blipFill>
          <a:blip r:embed="rId1"/>
          <a:srcRect l="-4947" t="0" r="-4947" b="0"/>
          <a:stretch/>
        </p:blipFill>
        <p:spPr>
          <a:xfrm>
            <a:off x="914400" y="1752480"/>
            <a:ext cx="7238880" cy="3981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904680" y="6400800"/>
            <a:ext cx="392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www.revistadearte.com/ wp-content/uploads/2009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Prerevolutionary M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pre_revolutionary_mansion_havana_cuba_photo_galen_r_frysinger.jpg"/>
          <p:cNvPicPr/>
          <p:nvPr/>
        </p:nvPicPr>
        <p:blipFill>
          <a:blip r:embed="rId1"/>
          <a:srcRect l="-6542" t="0" r="-6542" b="0"/>
          <a:stretch/>
        </p:blipFill>
        <p:spPr>
          <a:xfrm>
            <a:off x="457200" y="1523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903600" y="6477120"/>
            <a:ext cx="433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heodora.com/wfb/photos/cuba/cuba_photos_23.htm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Concurso de Belleza en Cuba. 1950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(Cuban Beauty Contest,1950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914400" y="6477120"/>
            <a:ext cx="807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 :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liticacubana.blogspot.com/2007/10/fotos-de-cuba-antes-de-la-revolucion-la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Celio, Caito, Celia y la Son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3630600" cy="3352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685800" y="6324480"/>
            <a:ext cx="76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 :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liticacubana.blogspot.com/2007/10/fotos-de-cuba-antes-de-la-revolucion-la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Cuba Post-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Photo Ess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Triumph of the Revolution, 19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5" descr="PT-AK583_cubbas_G_20081226181607.jpg"/>
          <p:cNvPicPr/>
          <p:nvPr/>
        </p:nvPicPr>
        <p:blipFill>
          <a:blip r:embed="rId1"/>
          <a:srcRect l="-10662" t="0" r="-10662" b="0"/>
          <a:stretch/>
        </p:blipFill>
        <p:spPr>
          <a:xfrm>
            <a:off x="53352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896760" y="6477120"/>
            <a:ext cx="568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http://si.wsj.net/public/resources/images/PT-AK583_cubbas_G_20081226181607.jp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8:03:14Z</dcterms:created>
  <dc:creator>Rina</dc:creator>
  <dc:description/>
  <dc:language>en-US</dc:language>
  <cp:lastModifiedBy>Don Fuller</cp:lastModifiedBy>
  <dcterms:modified xsi:type="dcterms:W3CDTF">2010-09-27T20:56:49Z</dcterms:modified>
  <cp:revision>15</cp:revision>
  <dc:subject/>
  <dc:title>Cuba Pre-Revolution</dc:title>
</cp:coreProperties>
</file>