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597-190F-47C5-9939-7BF5B1F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ABE-6B63-44AC-A9C7-1163967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D08-043C-4620-9D75-FDCF9D0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C01-BCF8-4ADA-8A2E-960CE75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A6A-521A-47B5-90AF-414D1994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098-490A-4813-BA32-6272129D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F2C-40FA-44E5-A2C9-1FD4FB88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7D0-8F03-4169-AEFE-DA0975F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142-E52D-49AD-AA04-34DD84F7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407-12F3-4057-91C3-BCBDC57B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88A-E6D8-459D-84E1-C174A00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A6F-223E-4586-8431-3696F7DF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9F78-6AEC-4ABD-86E5-B09AB812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phicstudio.usf.ed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915840" y="1601640"/>
            <a:ext cx="7313760" cy="4570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n título (El Gallo) [Untitled (The Rooster)]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Digital photograph mounted and laminated on foam board, with pins and threa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8 x 59 ¾ inches</a:t>
            </a: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inTitulo2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838080"/>
            <a:ext cx="4419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la Serie para transformar la palabra política en hechos, finalmente II (From the Series To Transform the Political Word into Facts, Finally II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9</a:t>
            </a:r>
            <a:br>
              <a:rPr sz="4000"/>
            </a:b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lack and white digital photograp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n metal and stuc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x 4 ¼ inch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38080" y="5943600"/>
            <a:ext cx="7925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mages provided by USF Graphicstudio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1"/>
              </a:rPr>
              <a:t>http://www.graphicstudio.usf.edu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aterials and dimensions from boo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Garaicoa, Carlos.  </a:t>
            </a:r>
            <a:r>
              <a:rPr b="0" i="1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La Enmienda Que Hay En Mí</a:t>
            </a:r>
            <a:r>
              <a:rPr b="0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.  Museo Nacional de Bellas Artes, La Habana,  2009.  Pr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ParaTransformarLaPalabraPoliticaEnHechos2"/>
          <p:cNvPicPr/>
          <p:nvPr/>
        </p:nvPicPr>
        <p:blipFill>
          <a:blip r:embed="rId2"/>
          <a:stretch/>
        </p:blipFill>
        <p:spPr>
          <a:xfrm>
            <a:off x="914400" y="304920"/>
            <a:ext cx="3657600" cy="5537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5257800" y="19051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8:21:31Z</dcterms:created>
  <dc:creator>Rina</dc:creator>
  <dc:description/>
  <dc:language>en-US</dc:language>
  <cp:lastModifiedBy>Don Fuller</cp:lastModifiedBy>
  <dcterms:modified xsi:type="dcterms:W3CDTF">2010-09-27T20:58:10Z</dcterms:modified>
  <cp:revision>8</cp:revision>
  <dc:subject/>
  <dc:title>Sin Titulo</dc:title>
</cp:coreProperties>
</file>