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EBAC-AB11-479A-8AB6-5984EAA17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B372-00D1-4BFB-B0E4-3E5AFDCE9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2752-E024-489E-8310-C0140A65A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4848-EACF-415C-81AB-0AA659ADB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55DC-B4A9-4F21-8376-8CFD2C616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9C43-E404-4E5B-9D3F-A535DF7A7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7D27-2849-4EF6-9F3B-41593930D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DE38-288C-462B-9387-80595EDDC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DD00-65AC-4B72-90A1-BC377A9A6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654E-F492-4093-AAC6-8B6841557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D9E2-6EDE-493E-9341-7798B3B52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F19A-335D-4A5F-8D07-70173858F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45CE3-05D2-464D-BFA0-F95B9FBB66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lsf-lau.com/lau-street-style-on-wednesday-march-18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todayandtomorrow.net/2006/10/31/art-force-one/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flickr.com/photos/holistichenna/collections/72157607407444655/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  <a:ea typeface="Tahoma"/>
              </a:rPr>
              <a:t>Everyday 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  <a:ea typeface="Tahoma"/>
              </a:rPr>
              <a:t>Graffiti Mural in School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457200" y="6248520"/>
            <a:ext cx="7696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trieved from:  </a:t>
            </a:r>
            <a:r>
              <a:rPr b="0" lang="en-US" sz="9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lsf-lau.com/lau-street-style-on-wednesday-march-18/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  <a:ea typeface="Tahoma"/>
              </a:rPr>
              <a:t>Very colorful custom sneakers by Art Air Force O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4"/>
          <p:cNvSpPr/>
          <p:nvPr/>
        </p:nvSpPr>
        <p:spPr>
          <a:xfrm>
            <a:off x="457200" y="6095880"/>
            <a:ext cx="8093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609480" y="6248520"/>
            <a:ext cx="7696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trieved from:  </a:t>
            </a:r>
            <a:r>
              <a:rPr b="0" lang="en-US" sz="9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todayandtomorrow.net/2006/10/31/art-force-one/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  <a:ea typeface="Tahoma"/>
              </a:rPr>
              <a:t>Henna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57200" y="6248520"/>
            <a:ext cx="8077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trieved from:  http://www.holistichenna.com/henna_art_gallery_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9" descr="wattlecreek_pics_12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95480" y="1295280"/>
            <a:ext cx="3365640" cy="45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  <a:ea typeface="Tahoma"/>
              </a:rPr>
              <a:t>Tattoo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Nice Polynesian Tribal Design On The Foot Source: http://farm1.static.flickr.com/54/165712406_89db6268aa.jpg?v=0 By Jon Poulson"/>
          <p:cNvPicPr/>
          <p:nvPr/>
        </p:nvPicPr>
        <p:blipFill>
          <a:blip r:embed="rId1"/>
          <a:stretch/>
        </p:blipFill>
        <p:spPr>
          <a:xfrm>
            <a:off x="1905120" y="1295280"/>
            <a:ext cx="5638680" cy="4240440"/>
          </a:xfrm>
          <a:prstGeom prst="rect">
            <a:avLst/>
          </a:prstGeom>
          <a:ln w="0">
            <a:noFill/>
          </a:ln>
        </p:spPr>
      </p:pic>
      <p:sp>
        <p:nvSpPr>
          <p:cNvPr id="54" name="Text Box 6"/>
          <p:cNvSpPr/>
          <p:nvPr/>
        </p:nvSpPr>
        <p:spPr>
          <a:xfrm>
            <a:off x="533520" y="5867280"/>
            <a:ext cx="800100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trieved from:  http://hubpages.com/hub/Plumeria-Tattoo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  <a:ea typeface="Tahoma"/>
              </a:rPr>
              <a:t>Body Pierc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INSERT DESCRIPTION"/>
          <p:cNvPicPr/>
          <p:nvPr/>
        </p:nvPicPr>
        <p:blipFill>
          <a:blip r:embed="rId1"/>
          <a:stretch/>
        </p:blipFill>
        <p:spPr>
          <a:xfrm>
            <a:off x="2057400" y="1905120"/>
            <a:ext cx="5076720" cy="3295440"/>
          </a:xfrm>
          <a:prstGeom prst="rect">
            <a:avLst/>
          </a:prstGeom>
          <a:ln w="0">
            <a:noFill/>
          </a:ln>
        </p:spPr>
      </p:pic>
      <p:sp>
        <p:nvSpPr>
          <p:cNvPr id="57" name="Text Box 7"/>
          <p:cNvSpPr/>
          <p:nvPr/>
        </p:nvSpPr>
        <p:spPr>
          <a:xfrm>
            <a:off x="457200" y="5562720"/>
            <a:ext cx="8077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trieved from:  http://well.blogs.nytimes.com/2008/06/13/the-complications-of-body-piercing/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  <a:ea typeface="Tahoma"/>
              </a:rPr>
              <a:t>New York City Subway Art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Location: 14th Street/Union Squa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60" name="Text Box 4"/>
          <p:cNvSpPr/>
          <p:nvPr/>
        </p:nvSpPr>
        <p:spPr>
          <a:xfrm>
            <a:off x="380880" y="624852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trieved from:  http://www.nycsubway.org/perl/show?3861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  <a:ea typeface="Tahoma"/>
              </a:rPr>
              <a:t>CD Cover 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1219320" y="1905120"/>
            <a:ext cx="6629400" cy="3646440"/>
          </a:xfrm>
          <a:prstGeom prst="rect">
            <a:avLst/>
          </a:prstGeom>
          <a:ln w="0">
            <a:noFill/>
          </a:ln>
        </p:spPr>
      </p:pic>
      <p:sp>
        <p:nvSpPr>
          <p:cNvPr id="63" name="Text Box 5"/>
          <p:cNvSpPr/>
          <p:nvPr/>
        </p:nvSpPr>
        <p:spPr>
          <a:xfrm>
            <a:off x="762120" y="5791320"/>
            <a:ext cx="7772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trieved from:  http://www.amazon.com/Raymond-v-Usher/dp/B002RAREAK/ref=sr_1_1?ie=UTF8&amp;s=music&amp;qid=1270769188&amp;sr=8-1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8T22:51:42Z</dcterms:created>
  <dc:creator>Rina</dc:creator>
  <dc:description/>
  <dc:language>en-US</dc:language>
  <cp:lastModifiedBy>Don Fuller</cp:lastModifiedBy>
  <dcterms:modified xsi:type="dcterms:W3CDTF">2010-09-28T17:25:49Z</dcterms:modified>
  <cp:revision>13</cp:revision>
  <dc:subject/>
  <dc:title>Everyday Art</dc:title>
</cp:coreProperties>
</file>