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60E9-D73D-4065-A788-D680C48B8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0B5-6345-4978-91A1-15935DA930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based on photograp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nymous, USA; Niagara Falls Montage Family Portrait, 1910; Silver emulsion; 8 x 1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Drapkin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ate student discussion by as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ing on in this pictur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see that makes you say tha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o you think the photographer took the photo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ight be the photographic techniques used in this photo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0E52-D3F4-4EFF-9C2A-6ACE1FE677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1D-A12B-4F89-889B-A6777D5E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3A6-2405-4239-B46A-F00E6F50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7FC4E-6EDC-4220-86D9-77E78460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A2061-31B6-4B8C-847C-8BAE651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0A635C-98A9-4324-A6E8-1BD35B8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6B141B-B812-457F-9FDA-18D9898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04108-7901-4D50-A3E7-3C5E97E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DCE620-3C57-4AFE-8A53-591F4D3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F1600-43F8-437E-B3DF-63DC360E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33220-A259-46E3-BA26-9A7310F2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58BDA-FC2D-442C-8F2B-4C37A30C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52A9D9-A824-4115-BC17-5A60FECA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EC3-EB36-4A82-968C-DC0F0F91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C87EB7-E615-4D06-9655-2703549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EC162-3793-412A-9CF3-4CCCB8B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8CF755-D938-411D-B7D0-806D8699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BDEE5-55E8-4CFD-89F5-AC4DAFC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FE62F-C3FA-4DAF-90BF-1F854BC4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AB0400-3CCA-428F-9B1D-523B5F38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0C651-DEEB-4FA8-B601-6B882F4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5399D-45B0-4696-BFEA-D886E37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5804EB-3303-43E5-BA2F-7DB6F83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BBD0E8-DCD9-4FF1-91AD-B67DE1AC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C26-2ACA-48B6-A61A-659113B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0E0330-AF79-46C5-ABCD-2F80C6A0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545DB-BF11-4377-A4F0-95A6C86F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0F78B-FA7B-4A1E-B35F-3199A6B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1B73E-9BED-4AAB-B229-A4625A1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AF65-F584-4A42-902B-60A17EB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CE660-B58C-443F-8C03-875812A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F536-F5EC-4D1D-BCC4-4300F43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1EC4F-B2DD-4305-BBE3-74CA961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F6E4C-00EC-4FB3-9A2B-573639A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027D8-E4EE-4681-8C64-7F45F0F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1904-7551-47E3-B112-A2B4A237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AADF7-5E97-48DE-B72D-45A3E5E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F00EF-C642-4898-8148-A14E0F8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400E7-7B7D-4187-A292-314FF5D0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894C5-5385-4D5F-B4DC-1568879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8DE12-AEA4-4194-A9F0-BE96339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3682C-93C9-4D72-BEB4-5757408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AC985-0B6E-4621-B6D0-21FE08EE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F7AC4-A739-4FE0-B1AA-F66F6D72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85D7B-28DF-43B3-A3BF-FFABE3A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A1FE1-B605-4CC8-9819-73C2F7D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C410C-7B93-4F57-8103-576B332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80A42-56ED-4059-BEB0-A825304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10A8-25E5-41C2-9E3B-B21D6A8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89F43-63B4-4277-8EF2-B6B5467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645BE-6C6F-423A-8876-C31F5C17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582B5-0315-4DDF-9EFB-C35630E3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C43FE-E12E-410F-9204-C80D5F3E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2727F-5467-4940-9FE6-175EBB0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6E6F7-7175-4D09-953C-E900B512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574C0-5F2A-4675-80AD-F2E9DF6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F3E26-2956-42EE-95BD-B687741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1A4-BE37-424B-89CA-29C2873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BD2A8-C4D0-418E-9758-4651A79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72C46-C0AA-4D30-BEC8-6DE5D25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49F1-0018-48E4-B041-4105D82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8376-4833-4A7C-88DF-97A1EBE1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4CA14-2172-4277-B10C-382C3B52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1814-2527-4467-931C-63ED3102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DC75-46C9-427C-9A7A-8A303F80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4F04-381F-42FC-9EDA-2D3F853F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3361-41E6-4B8A-8F07-2512AB09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0BFA-6A77-4F44-85EF-3621EF78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42F-5B60-4ED3-A43F-CE72FF8A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F2FA7-49E5-4E8B-9428-45F148E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9295-7D90-49EB-912D-8F4C90F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6C89-5F4B-4496-89E4-2481A1C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2E87-2E1B-4CAA-BBAC-1A6306C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0506-B9E8-4CEA-9522-0E77C41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7B22-DFCF-40D4-A759-719AFAC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21B5-4F17-4F2B-8E1F-0BB1E30A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F4D1A-35CC-47F4-970E-4B1E84E3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35C08-3845-4087-9CCE-D4CA934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B8600-4C54-4C7A-B428-A3AA855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C35-740E-4EE3-B973-E3370E0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D84A3-8E45-4795-943C-0D3DE52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358CC-79EA-4A79-94C5-64D1966C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78C78-E8CA-475E-9E62-31DA9E97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E22A0-46B0-498F-B2F5-AA95FBF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FEC1A-3036-4767-9A9E-E7ACB5B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00FEC-A1C8-44F6-AAF1-5F2F7CE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DBED4-620A-4624-85E5-3A64C9C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3190A-E9FC-418D-AAB3-E563F3C6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0FA0E-217D-4636-94AC-FFE0CFD2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E082-AB15-4298-B7C3-11BE2635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730-A78E-45DA-8E73-58BDBAC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F66E-56C5-4061-A067-932AB282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6894-08FA-4C5B-ACFB-B8EE7941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4DE9-1E13-4C88-89F0-28E0FBC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F071-9E5E-45BF-A0C3-CE19AD8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7AD6-BD45-4E94-89A3-B40A0B5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01B8-B991-457F-B791-564D8EF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7D1DC-EFE3-495F-8D5F-44C19418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8253-8B43-4C11-B55F-476C535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A903-1140-409D-B6F0-81A5AAD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6EC7-A0C5-4083-B7C7-4A6C7F9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38F-A5DA-41D1-A620-FC148BD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17EB-D729-435E-B686-9880B62F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9C39-F43D-41A1-AE43-76DFCE32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BB1E-60D0-45A0-9C48-060535C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200C-499A-4650-AE03-9615C00B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CF193-CEE0-4792-8289-213AA3E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5DF0F-D1C3-487D-99C3-9BB70DAD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68398-3A3A-4BF4-884A-71D9190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10BB-EA6A-4B30-B3E6-586E812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C9B72-CF46-45DC-AC01-A2CE379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F2D2-BA09-4AD9-B7AC-04CE351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041-1EC7-4A34-9881-E884074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ACC8-88DE-4A34-BC84-B321AB0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D6D8B-6C60-4EF8-A2F2-FFB83F10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4382-CDB9-4390-8674-14046A9E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32B57-187B-4849-B76B-4A09FF83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49276-E7C8-470E-9F46-8294747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345E-6429-4DF3-BDD4-93200D3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1467-FB57-431F-A662-CE85243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839F-818A-4829-9CE4-F44AF52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749E-536D-4BD6-8579-1657297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E6B90-16AE-4931-B469-7E2D3B91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E71-34CC-4EFD-BAEE-A6679C3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447E-2F7F-4887-B3D9-541CB5B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85312-AB39-46AD-8642-AC95E66F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0F19-AD52-4C12-BCDB-94595E92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1BB2-AB90-48F3-8AFF-D2BCACAF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D49E-A458-4712-BC11-488436CC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D95E9-C49A-4CDA-9E4B-412600A7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D80E1-F9F1-4EC1-A34F-BF05359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8101-6A24-40FD-9D12-1ED635A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BD120-9916-4C6E-8D8D-40D8083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2777-CDF4-41A4-9DA5-75F5BA7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266-34D4-459C-9490-C82D2A6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7A476-1BC4-4D69-B3B1-2D7CCDB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830B-D670-406B-8A83-29E7252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63609-2A5D-4AF6-910F-22A5472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9A88E-29B3-490A-B3D3-AEBA124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A298-67BB-438F-B970-20375A6D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B85B-8A8C-4E39-B39A-E121C881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834B4-69E0-4522-95F7-5225F183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28E0E0-3863-40AD-96FB-614BD485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47629-0545-49C8-BF6F-57B56DB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035C3-6A09-48A7-80BE-91EE9C9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867-5EF8-4355-A918-484929803D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1133-DB86-4C56-9A19-6F63D0FC635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34DE-EADD-481F-B6FE-094C448230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AFD1-F52F-4D88-9CF7-47B745AF32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495-85A7-463F-8E8E-066A2C9BD1D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B98C-015B-4B01-AE9D-3AA4C1C46A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301A-5CED-4C9A-837C-38B2686FB2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210-3C9E-4700-869A-46483AF14B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C7F-22CC-4E59-ABD8-A9A9A46171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C4C-6A50-4A0E-BF54-3029D0115C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ound Diagonal Corner Rectangle 6"/>
          <p:cNvGrpSpPr/>
          <p:nvPr/>
        </p:nvGrpSpPr>
        <p:grpSpPr>
          <a:xfrm>
            <a:off x="158760" y="139680"/>
            <a:ext cx="8826480" cy="6585120"/>
            <a:chOff x="158760" y="139680"/>
            <a:chExt cx="8826480" cy="6585120"/>
          </a:xfrm>
        </p:grpSpPr>
        <p:pic>
          <p:nvPicPr>
            <p:cNvPr id="31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0E2-490E-4A5E-AB6A-57FE349A57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090-9D31-485F-8284-2E17773ECE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1"/>
          <a:stretch/>
        </p:blipFill>
        <p:spPr>
          <a:xfrm>
            <a:off x="463680" y="378000"/>
            <a:ext cx="8235720" cy="2279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"/>
          <p:cNvPicPr/>
          <p:nvPr/>
        </p:nvPicPr>
        <p:blipFill>
          <a:blip r:embed="rId2"/>
          <a:stretch/>
        </p:blipFill>
        <p:spPr>
          <a:xfrm>
            <a:off x="0" y="3191040"/>
            <a:ext cx="9237600" cy="27619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ffffff">
                <a:alpha val="40000"/>
              </a:srgbClr>
            </a:outerShdw>
          </a:effectLst>
        </p:spPr>
      </p:pic>
      <p:pic>
        <p:nvPicPr>
          <p:cNvPr id="535" name="Content Placeholder 3" descr="le gray.tiff"/>
          <p:cNvPicPr/>
          <p:nvPr/>
        </p:nvPicPr>
        <p:blipFill>
          <a:blip r:embed="rId3"/>
          <a:srcRect l="-1670" t="4203" r="1173" b="0"/>
          <a:stretch/>
        </p:blipFill>
        <p:spPr>
          <a:xfrm>
            <a:off x="0" y="3551400"/>
            <a:ext cx="3056040" cy="2041200"/>
          </a:xfrm>
          <a:prstGeom prst="rect">
            <a:avLst/>
          </a:prstGeom>
          <a:ln w="0">
            <a:noFill/>
          </a:ln>
        </p:spPr>
      </p:pic>
      <p:pic>
        <p:nvPicPr>
          <p:cNvPr id="536" name="Content Placeholder 3" descr="rothstein.tiff"/>
          <p:cNvPicPr/>
          <p:nvPr/>
        </p:nvPicPr>
        <p:blipFill>
          <a:blip r:embed="rId4"/>
          <a:srcRect l="2785" t="6057" r="3605" b="3459"/>
          <a:stretch/>
        </p:blipFill>
        <p:spPr>
          <a:xfrm>
            <a:off x="3159000" y="3551400"/>
            <a:ext cx="2907000" cy="2041200"/>
          </a:xfrm>
          <a:prstGeom prst="rect">
            <a:avLst/>
          </a:prstGeom>
          <a:ln w="0">
            <a:noFill/>
          </a:ln>
        </p:spPr>
      </p:pic>
      <p:pic>
        <p:nvPicPr>
          <p:cNvPr id="537" name="Content Placeholder 3" descr="explosion.tiff"/>
          <p:cNvPicPr/>
          <p:nvPr/>
        </p:nvPicPr>
        <p:blipFill>
          <a:blip r:embed="rId5"/>
          <a:srcRect l="727" t="2007" r="-341" b="3366"/>
          <a:stretch/>
        </p:blipFill>
        <p:spPr>
          <a:xfrm>
            <a:off x="6205680" y="3551400"/>
            <a:ext cx="2938320" cy="20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539" name="Content Placeholder 3" descr="niagara.tiff"/>
          <p:cNvPicPr/>
          <p:nvPr/>
        </p:nvPicPr>
        <p:blipFill>
          <a:blip r:embed="rId2"/>
          <a:srcRect l="-6085" t="0" r="-5739" b="0"/>
          <a:stretch/>
        </p:blipFill>
        <p:spPr>
          <a:xfrm>
            <a:off x="2158920" y="1539720"/>
            <a:ext cx="4311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6462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Form base groups of six students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Each person in the base groups will select a list of photographic techniques to become an “expert” on: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Earliest Techniques Expert Group: Daguerrotypes, Salt Prints, Albumen Prints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One-of-a-kind Images Expert Group: Tintypes, Ambrotypes, Collodian Negatives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Camera-less Techniques Expert Group: Photograms, Cyanotypes, Collage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Silver Gelatin, Pigment, and Digital Expert Group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Special Kinds of Photographic Prints Expert Group: Stereograph, Cartes de Visite, Cabinet Cards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Color Printing Expert Group: Chromogenic, Cibachrome, Dye Transfer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Rearrange into expert groups (everyone with the same list of photographic techniques)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Collaboratively, research each photographic technique: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define each technique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generate a list of unique characteristics of each technique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Locate at least two examples of each technique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Create a PowerPoint/Prezi to highlight the information and examples for each technique 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Rearrange back into base groups and share each presentation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Complete the graphic organizer based on information from each presentation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21:40:17Z</dcterms:created>
  <dc:creator>Information Technology</dc:creator>
  <dc:description/>
  <dc:language>en-US</dc:language>
  <cp:lastModifiedBy>Don Fuller</cp:lastModifiedBy>
  <dcterms:modified xsi:type="dcterms:W3CDTF">2015-02-13T16:29:38Z</dcterms:modified>
  <cp:revision>9</cp:revision>
  <dc:subject/>
  <dc:title>Photographic Techniques</dc:title>
</cp:coreProperties>
</file>