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801F-98CF-4295-95A5-789D06B2391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Barack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source: http://img.izismile.com/img/img2/20090422/caricature_3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6DAD-F402-4050-8561-79DEFDDB0E8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r Secretary of State/Former Senator/Former First Lady Hillary Clin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drawpeople.com/political-artwork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F07E-1CE9-481C-B81B-29DA5AF6A3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or Will Sm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http://www.chilloutpoint.com/images/2010/09/caricatures-of-the-celebrities/caricatures-of-the-celebrities-0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9614-8C14-41CD-B020-72FD333A1F9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tainer Elvis Pres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http://boardjournal.com/images/funny-celebrities-caricatures_5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2518-CAB8-465F-A949-67BA498554A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tainer and Entrepreneur Oprah Winfr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thebluestudios.com/caricatures/Oprah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829B-914D-450F-8E24-09A98C212DD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5C1-D7FC-4C18-8034-ED13F179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A32-E7FA-4774-8942-97A0A801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5C81-6491-4C55-B960-8DF0E323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35D-B767-4B33-90C0-4BF9D1BD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8ED-A2A4-4CCB-98E8-7800C8FF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0A7-2428-4BA2-8802-EC99A4C2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771-404E-4ACD-9F0E-AB328801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33F-9044-43B2-AE60-DD58CD13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899-E64C-4681-890B-3BAB226A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D37-0D4F-4D4F-BA1B-BF456AC7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6D4-6CDA-40CF-8B1A-9FB2CA63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5E4-6E83-47A5-9499-C3FE4C9D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806A-3CAC-4581-97DA-02A991A9E2C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ic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g.izismile.com/img/img2/20090422/caricature_32.jpg"/>
          <p:cNvPicPr/>
          <p:nvPr/>
        </p:nvPicPr>
        <p:blipFill>
          <a:blip r:embed="rId1"/>
          <a:stretch/>
        </p:blipFill>
        <p:spPr>
          <a:xfrm>
            <a:off x="2179800" y="316080"/>
            <a:ext cx="4784400" cy="62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313000" y="0"/>
            <a:ext cx="45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chilloutpoint.com/images/2010/09/caricatures-of-the-celebrities/caricatures-of-the-celebrities-01.jpg"/>
          <p:cNvPicPr/>
          <p:nvPr/>
        </p:nvPicPr>
        <p:blipFill>
          <a:blip r:embed="rId1"/>
          <a:stretch/>
        </p:blipFill>
        <p:spPr>
          <a:xfrm>
            <a:off x="2333520" y="374760"/>
            <a:ext cx="447696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boardjournal.com/images/funny-celebrities-caricatures_5.jpg"/>
          <p:cNvPicPr/>
          <p:nvPr/>
        </p:nvPicPr>
        <p:blipFill>
          <a:blip r:embed="rId1"/>
          <a:stretch/>
        </p:blipFill>
        <p:spPr>
          <a:xfrm>
            <a:off x="2381400" y="722160"/>
            <a:ext cx="4383000" cy="54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698920" y="893880"/>
            <a:ext cx="374616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18:44:01Z</dcterms:created>
  <dc:creator>coedu</dc:creator>
  <dc:description/>
  <dc:language>en-US</dc:language>
  <cp:lastModifiedBy>Don Fuller</cp:lastModifiedBy>
  <dcterms:modified xsi:type="dcterms:W3CDTF">2013-09-10T18:56:12Z</dcterms:modified>
  <cp:revision>8</cp:revision>
  <dc:subject/>
  <dc:title>PowerPoint Presentation</dc:title>
</cp:coreProperties>
</file>