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FEA-FA03-4F78-93A9-96815E47C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http://upload.wikimedia.org/wikipedia/commons/thumb/b/b6/Gilbert_Stuart_Williamstown_Portrait_of_George_Washington.jpg/220px-Gilbert_Stuart_Williamstown_Portrait_of_George_Washington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9B60-58D2-4C37-9BEC-D0C5E1B75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http://upload.wikimedia.org/wikipedia/commons/4/44/Abraham_Lincoln_head_on_shoulders_photo_portrai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26B-7684-4E85-8959-B639AB299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http://upload.wikimedia.org/wikipedia/commons/3/3e/Jose-Marti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5874-0E34-4E3E-8C2D-62BE41386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D35-5989-4912-8738-23575235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E31-A746-452E-86B6-FFC40B8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D33-8B5F-4B2C-AD3F-E63EBD07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E6C-96B6-410A-A27D-329FD2D9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1A1-22BB-49B4-BA51-8DFCFF5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4A7-F690-4378-86EA-5AE7294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5AA-8E44-4270-87BA-4B2BDA3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FF3-71F1-4ACB-85E5-CD25684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758-4D1B-4E33-817A-E07CE3D3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B2A-A975-40A5-B215-0EAA932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8A6-3D65-4EAA-A380-730781C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F1E-B413-4846-A9F5-14CBBB9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52A-A852-43E4-A25E-4AAC6E393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286000" y="316080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berty is the right of every man to be honest, to think and to speak without hypocris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aid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it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benreed.net/wp-content/uploads/2011/02/george-washington-picture.jpg"/>
          <p:cNvPicPr/>
          <p:nvPr/>
        </p:nvPicPr>
        <p:blipFill>
          <a:blip r:embed="rId1"/>
          <a:stretch/>
        </p:blipFill>
        <p:spPr>
          <a:xfrm>
            <a:off x="1695600" y="1047600"/>
            <a:ext cx="575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upload.wikimedia.org/wikipedia/commons/4/44/Abraham_Lincoln_head_on_shoulders_photo_portrait.jpg"/>
          <p:cNvPicPr/>
          <p:nvPr/>
        </p:nvPicPr>
        <p:blipFill>
          <a:blip r:embed="rId1"/>
          <a:stretch/>
        </p:blipFill>
        <p:spPr>
          <a:xfrm>
            <a:off x="2511360" y="723960"/>
            <a:ext cx="4121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1.bp.blogspot.com/-ZkPedhx830Y/T5_n88FROwI/AAAAAAAAZ50/N9keSAjQUhc/s1600/Jose+Marti.jpg"/>
          <p:cNvPicPr/>
          <p:nvPr/>
        </p:nvPicPr>
        <p:blipFill>
          <a:blip r:embed="rId1"/>
          <a:stretch/>
        </p:blipFill>
        <p:spPr>
          <a:xfrm>
            <a:off x="2835360" y="577800"/>
            <a:ext cx="347328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1:26:24Z</dcterms:created>
  <dc:creator>coedu</dc:creator>
  <dc:description/>
  <dc:language>en-US</dc:language>
  <cp:lastModifiedBy>Don Fuller</cp:lastModifiedBy>
  <dcterms:modified xsi:type="dcterms:W3CDTF">2013-09-10T18:41:41Z</dcterms:modified>
  <cp:revision>4</cp:revision>
  <dc:subject/>
  <dc:title>Who said this? What does it mean?</dc:title>
</cp:coreProperties>
</file>