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839-4A15-48A4-A49F-DEA75D786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you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two signs s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o you think this photo was tak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n do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might happen if he drinks from the other fount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separation exist in today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F74-6220-4BD1-8158-C9B5611BC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is cartoon with the photo we just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two signs say above the drinking fou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arriage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is issue a civil rights iss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other issue of inequality that the cartoonist could show with this same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0C2C-08FD-4A3F-AC2C-BB60B57EB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E0F-ADC8-4AC3-9A34-E151F556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604-082F-46DF-9532-8078503E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D5F-A691-41D9-8E78-CC7754D9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468-A9E9-4006-B3D9-BE589C87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1D6-5D4B-4A96-9994-14ED8856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F7F-D0CB-42BD-908A-A17A8D30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456-6D83-44C8-8CBF-FC45AFE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D8A-325D-4E14-A3B2-1F712333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A2B-61E6-41CE-87D2-B4F27A6B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469-C6DF-49E0-A685-A37C565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0A5-D961-4FAF-8866-BDF0E991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936-6254-4FB9-ABB8-CF8C8D2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426E-8B11-4AF9-8FBC-44AB9FE9D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hebookofnegroes.files.wordpress.com/2011/01/segregated.jpg"/>
          <p:cNvPicPr/>
          <p:nvPr/>
        </p:nvPicPr>
        <p:blipFill>
          <a:blip r:embed="rId1"/>
          <a:stretch/>
        </p:blipFill>
        <p:spPr>
          <a:xfrm>
            <a:off x="1838160" y="1652760"/>
            <a:ext cx="546768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79600" y="1538280"/>
            <a:ext cx="4384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20:06:25Z</dcterms:created>
  <dc:creator>coedu</dc:creator>
  <dc:description/>
  <dc:language>en-US</dc:language>
  <cp:lastModifiedBy>Don Fuller</cp:lastModifiedBy>
  <dcterms:modified xsi:type="dcterms:W3CDTF">2013-09-10T19:50:29Z</dcterms:modified>
  <cp:revision>2</cp:revision>
  <dc:subject/>
  <dc:title>PowerPoint Presentation</dc:title>
</cp:coreProperties>
</file>