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BD85-5BFB-4ACC-A149-DC6B0D605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Portrait, 1886, Vincent VagGogh, http://www.vangoghmuseum.nl/vgm/index.jsp?page=12263&amp;lang=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69CD-7377-497F-99B3-A8F0C301D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e Studi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1977, Jacob Lawrence:http://www.phillipscollection.org/research/over_the_line/html/studi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1D2F-FF45-4268-B90A-ABA1CBB9A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titled #466, 2008, Cindy Sherman: http://www.moma.org/interactives/exhibitions/2012/cindysherman/gallery/audio/4-466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CDE2-1F61-4890-819A-6E9C23DDD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"I looked and looked to see what so terrified you.”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ouisiana Projec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3, Carrie Mae Weems: http://www.womeninphotography.org/Events-Exhibits/DistinguishedPhotog/CarrieMaeWeems_2005/Weem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A4ED-F51A-41FA-8DB1-41DD7FEEB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elf-portrait with Thorn Necklace and Hummingbi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1940, Frida Kahlo: http://en.wikipedia.org/wiki/File:Frida_Kahlo_%28self_portrait%29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25CF-ECEA-4305-B5E5-78E5013C0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04A8-584B-47C2-A24C-0D1CDDE58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elf-Portrait/Photogravu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5, Chuck Close: http://www.graphicstudio.usf.edu/GS/artists/close_chuck/clos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elf Portrait in Police Va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1940, Weegee: http://www.alexandergray.com/artists/coco-fusc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42F0-FC77-4E75-8B55-9788BE072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 Room of One's Own: Women and Power in the New America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6-08, Coco Fusco: http://www.thing.net/~cocofusco/performance/room/room1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9A26-D156-4379-A58C-E371A6F92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541-9EC0-49A0-A1DB-E6339EAB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F08-F4D1-474E-BB26-502879E7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469-4F33-460E-BA04-99C75DE9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E9D-7D0E-42B1-891E-E35055FB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841B-491C-43DA-B8F9-B993E1AD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34A4-AF26-4285-953C-ECC0AD60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8611-15A5-40C5-9799-97FA5CC4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8529-3B98-418E-8286-E8E2CC95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9500-B8A8-4F37-92DF-3C930C3A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ABA3-0906-42DB-A124-2489B324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2DDF-A709-437D-83D3-1EFCA9EC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877-CFBB-4CAB-B285-1E315687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CCE6-F5EB-4545-AA9C-F08633E8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15DE-4B28-4BC6-8914-176DF061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2476-C37B-45F2-AFB9-1845FF32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FB7C-7E55-47CB-912B-C6EDF7B0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4989-15F9-445A-A4DB-4567ADB3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DF9-36B8-4DD8-98C4-C7F2E75D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CF8-80A2-463F-8D30-BC88B6E7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EBA-C889-4011-9846-CF947026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912-2A24-4881-BAEB-314C5C2F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69C-4399-448F-837E-104B610A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3B4-4C35-4874-A196-5AE25BC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F77-3158-4FDB-BEA6-0099C71F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9770-1EEC-48EF-8A5B-09B8C8911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5998-FA83-4B67-BBE6-46FE52321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Self-Portraits in 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090880" y="181080"/>
            <a:ext cx="496404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  <a:ea typeface="American Typewriter"/>
            </a:endParaRPr>
          </a:p>
        </p:txBody>
      </p:sp>
      <p:pic>
        <p:nvPicPr>
          <p:cNvPr id="93" name="Picture 3" descr=" Jacob Lawrence, The Studio"/>
          <p:cNvPicPr/>
          <p:nvPr/>
        </p:nvPicPr>
        <p:blipFill>
          <a:blip r:embed="rId1"/>
          <a:stretch/>
        </p:blipFill>
        <p:spPr>
          <a:xfrm>
            <a:off x="2252520" y="284040"/>
            <a:ext cx="463896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298600" y="0"/>
            <a:ext cx="45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592360" y="163440"/>
            <a:ext cx="395928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133720" y="254160"/>
            <a:ext cx="48765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349360" y="438120"/>
            <a:ext cx="44452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128680" y="0"/>
            <a:ext cx="488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73280" y="898560"/>
            <a:ext cx="759924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3:46:04Z</dcterms:created>
  <dc:creator>SARAH T TRAVIS</dc:creator>
  <dc:description/>
  <dc:language>en-US</dc:language>
  <cp:lastModifiedBy>Don Fuller</cp:lastModifiedBy>
  <dcterms:modified xsi:type="dcterms:W3CDTF">2013-09-10T19:49:34Z</dcterms:modified>
  <cp:revision>44</cp:revision>
  <dc:subject/>
  <dc:title>PowerPoint Presentation</dc:title>
</cp:coreProperties>
</file>