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44A-5460-4279-9459-5F4E0472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D48-142A-4659-AB54-B2C249E9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EBC-1F15-4684-BE2D-30F3CB5E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F81-F45D-4928-A76F-133080D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4A7-05FA-40EE-A0FA-915FA25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84F-E6AF-4568-B646-C05DD94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D90-1970-4891-879B-7F58CCD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F04-0A8C-40C6-9F5D-7138431A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F29-8D0A-44C5-BCE2-D20E0C7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6A9-8667-4C3D-9DB6-C1271B6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9F6-291C-4DDA-B444-2B33431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BB0-93B9-496A-8BDD-F71E4A0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562-A0BA-4906-B436-197A87E95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LQH Char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 Weiwei, Chinese Artist and Dis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do you already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know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do you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did you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lear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question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do you still ha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How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can you learn mo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5:05:44Z</dcterms:created>
  <dc:creator>Cruz, Barbara</dc:creator>
  <dc:description/>
  <dc:language>en-US</dc:language>
  <cp:lastModifiedBy>Don Fuller</cp:lastModifiedBy>
  <cp:lastPrinted>2012-04-16T18:03:45Z</cp:lastPrinted>
  <dcterms:modified xsi:type="dcterms:W3CDTF">2013-09-10T17:59:08Z</dcterms:modified>
  <cp:revision>23</cp:revision>
  <dc:subject/>
  <dc:title>KWL Chart: The Duties, Rights, and Responsibilities of Citizens</dc:title>
</cp:coreProperties>
</file>